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4EFBC-2AC9-455E-901A-6D88FE9CB5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5280" y="40186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71154-D1E0-481F-A78C-1E187378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1232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5280" y="4018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12320" y="4018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B132-B862-4ADF-A0E7-F46CFB64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77720" y="1988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60160" y="1988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95280" y="4018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77720" y="4018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60160" y="4018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6B7D-7F32-4349-9CEE-7FA06B4AF8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74FEC-AB69-4325-85B5-3C04AF29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56A3F-6670-4DF3-BC99-D7C64EDB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CF8F3-D999-4E4D-AAD1-D0D1F434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12320" y="1988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E26C4-8EEF-4E64-9153-C3C39D09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D7B4A-B273-457D-AA29-6B605078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C7B9B-16DA-47AF-9BC3-581BB8F7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2320" y="1988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95280" y="4018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8368B-68DA-40AE-8BDB-4E8649AD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9C5B0-DD37-4C1A-9B66-922D90D9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1232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12320" y="4018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844D1-C262-40F3-A012-B3A6ABE7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1232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95280" y="40186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53B0C-253A-4CD3-90F3-5790691D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5280" y="40186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BF2BC-17F1-4FF8-A577-DE537B9F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1232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95280" y="4018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12320" y="4018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4A49A-81E2-4A1F-BC60-851911BF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177720" y="1988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60160" y="1988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95280" y="4018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177720" y="4018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60160" y="4018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C084B-07FB-427D-A570-1CB2D716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BA30-CF02-427F-AAA0-0E4AEA21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2320" y="1988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0545C-F393-45EB-91EB-96CFE7D7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AB9B7-D87D-4E24-81DB-9163D758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E0AD3-2BB8-409D-81D8-062905F1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988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4018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CC25D-E8CB-47D6-BBD9-6E91C78C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232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12320" y="4018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13C62-B0F3-4495-ACEC-AA43B19F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2320" y="1988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5280" y="40186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CB583-5A18-4088-A0C5-3307595E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7451280" y="0"/>
            <a:ext cx="16923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pril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-360" y="6381360"/>
            <a:ext cx="477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02A2-9EBB-46A1-AC50-F589C917CAC8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7848720" y="6165720"/>
            <a:ext cx="129528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3FE4-6CC3-46C0-A512-28D380B3E5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67640" y="6093000"/>
            <a:ext cx="1295280" cy="560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300720" y="18900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7d"/>
                </a:solidFill>
                <a:latin typeface="Bookman Old Style"/>
              </a:rPr>
              <a:t>              </a:t>
            </a:r>
            <a:r>
              <a:rPr b="0" lang="en-GB" sz="2000" spc="-1" strike="noStrike">
                <a:solidFill>
                  <a:srgbClr val="00007d"/>
                </a:solidFill>
                <a:latin typeface="Bookman Old Style"/>
              </a:rPr>
              <a:t>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515772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ff"/>
                </a:solidFill>
                <a:latin typeface="Arial"/>
              </a:rPr>
              <a:t>Pav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99ff"/>
                </a:solidFill>
                <a:latin typeface="Arial"/>
              </a:rPr>
              <a:t>Shvai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24360" y="2565360"/>
            <a:ext cx="3889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ffff"/>
                </a:solidFill>
                <a:latin typeface="Bookman Old Style"/>
              </a:rPr>
              <a:t>Suffix Tre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40" y="5587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x Tree (ST)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ength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08296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ooted tre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leaves number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Each internal node, excluding the root, of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as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least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Each edge of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s labeled with a non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ubstring of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No two edges out of a node can have edge-lab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tarting with the same charac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leaf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e concatenation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e edge-labels on the path from the root to leaf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actly spells out the suffix o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amely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at starts at position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504D0-F8D0-4DF8-9AAF-B19F3E28D5A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x Tree fo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xabx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4FB7-009E-4F8B-9FAE-2182ACC1877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istence of a suffix tre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483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f one 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i="1" lang="ru-RU" sz="2400" spc="-1" strike="noStrike" baseline="-25000">
                <a:solidFill>
                  <a:srgbClr val="0000ff"/>
                </a:solidFill>
                <a:latin typeface="Times New Roman"/>
              </a:rPr>
              <a:t>j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matches a p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 of ano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i="1" lang="en-US" sz="24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then the path for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i="1" lang="ru-RU" sz="2400" spc="-1" strike="noStrike" baseline="-25000">
                <a:solidFill>
                  <a:srgbClr val="0000ff"/>
                </a:solidFill>
                <a:latin typeface="Times New Roman"/>
              </a:rPr>
              <a:t>j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ould not 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t a lea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xab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xa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x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How to avoid this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ssume that the last character of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ppe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owhere else in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dd a new character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not in the alphabet 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e end of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065D7-6F0D-48DE-933C-14F5121D6D4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x Tree fo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xabxac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B742A-9701-415F-9536-750605627AE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9720" y="1773000"/>
            <a:ext cx="854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uilding STs in linear tim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kkonen’s algorith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BC832-E093-4851-9A88-D9BCDC4BF26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5640" y="343080"/>
            <a:ext cx="8762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ilding STs in linear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7880" y="1760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iner’s algorithm [FOCS, 197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lgorithm of 1973” called by Kn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algorithm of linear time, but much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cGreight’s algorithm [JACM, 197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time and quadratic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kkonen’s algorithm [Algorithmica, 199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time algorithm and l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at we will focu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1C72A-E190-49CD-9E60-A474070AB8B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licit Suffix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6760" y="155700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konen’s algorithm constructs a sequence of implicit STs, the last of which is converted to a true ST of the given st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mplicit suffix tree for string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tree obtained from the suffix tree fo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ing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all edge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ing any edges that now have no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ing any node that does not still have at least two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mplicit suffix tree for prefix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[1,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imilarly defined based on the suffix tree for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[1,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]$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denote the implicit suffix tree for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[1,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ffix is in the tree, but may not end at a lea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8DA2-E883-4B3A-9914-EC2A17B07A4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66400" y="457200"/>
            <a:ext cx="8877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uction of th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icit 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tree for xabxa from tree for xabxa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abxa$, abxa$, bxa$, xa$, a$, $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075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2" idx="3"/>
            <a:endCxn id="145" idx="4"/>
          </p:cNvCxnSpPr>
          <p:nvPr/>
        </p:nvCxnSpPr>
        <p:spPr>
          <a:xfrm flipH="1">
            <a:off x="723240" y="3112920"/>
            <a:ext cx="1802520" cy="206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685800" y="5105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867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42" idx="6"/>
            <a:endCxn id="146" idx="6"/>
          </p:cNvCxnSpPr>
          <p:nvPr/>
        </p:nvCxnSpPr>
        <p:spPr>
          <a:xfrm>
            <a:off x="2590560" y="3085920"/>
            <a:ext cx="108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3" name=""/>
          <p:cNvCxnSpPr>
            <a:stCxn id="142" idx="5"/>
            <a:endCxn id="149" idx="2"/>
          </p:cNvCxnSpPr>
          <p:nvPr/>
        </p:nvCxnSpPr>
        <p:spPr>
          <a:xfrm>
            <a:off x="2579760" y="3112560"/>
            <a:ext cx="621000" cy="58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42" idx="0"/>
            <a:endCxn id="150" idx="0"/>
          </p:cNvCxnSpPr>
          <p:nvPr/>
        </p:nvCxnSpPr>
        <p:spPr>
          <a:xfrm>
            <a:off x="2552760" y="3048120"/>
            <a:ext cx="1753200" cy="121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49" idx="2"/>
            <a:endCxn id="147" idx="6"/>
          </p:cNvCxnSpPr>
          <p:nvPr/>
        </p:nvCxnSpPr>
        <p:spPr>
          <a:xfrm flipH="1">
            <a:off x="3047400" y="3695400"/>
            <a:ext cx="15300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49" idx="3"/>
            <a:endCxn id="151" idx="6"/>
          </p:cNvCxnSpPr>
          <p:nvPr/>
        </p:nvCxnSpPr>
        <p:spPr>
          <a:xfrm>
            <a:off x="3211560" y="3722400"/>
            <a:ext cx="751680" cy="180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4267080" y="4724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0" idx="4"/>
            <a:endCxn id="157" idx="1"/>
          </p:cNvCxnSpPr>
          <p:nvPr/>
        </p:nvCxnSpPr>
        <p:spPr>
          <a:xfrm flipH="1">
            <a:off x="4277520" y="4343040"/>
            <a:ext cx="27720" cy="392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50" idx="6"/>
            <a:endCxn id="148" idx="2"/>
          </p:cNvCxnSpPr>
          <p:nvPr/>
        </p:nvCxnSpPr>
        <p:spPr>
          <a:xfrm>
            <a:off x="4343400" y="4304880"/>
            <a:ext cx="2286720" cy="160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33228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60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748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2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85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752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750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672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6832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11320" y="3505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32040" y="4648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44640" y="4495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812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213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40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787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9764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43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5612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86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02E5-0BCC-423A-9EC7-93397B9202C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uction of the Implicit ST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abxa$, abxa$, bxa$, xa$, a$, $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075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5" idx="3"/>
            <a:endCxn id="188" idx="4"/>
          </p:cNvCxnSpPr>
          <p:nvPr/>
        </p:nvCxnSpPr>
        <p:spPr>
          <a:xfrm flipH="1">
            <a:off x="723240" y="3112920"/>
            <a:ext cx="1802520" cy="206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685800" y="5105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146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5867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85" idx="6"/>
            <a:endCxn id="189" idx="6"/>
          </p:cNvCxnSpPr>
          <p:nvPr/>
        </p:nvCxnSpPr>
        <p:spPr>
          <a:xfrm>
            <a:off x="2590560" y="3085920"/>
            <a:ext cx="108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6" name=""/>
          <p:cNvCxnSpPr>
            <a:stCxn id="185" idx="5"/>
            <a:endCxn id="192" idx="2"/>
          </p:cNvCxnSpPr>
          <p:nvPr/>
        </p:nvCxnSpPr>
        <p:spPr>
          <a:xfrm>
            <a:off x="2579760" y="3112560"/>
            <a:ext cx="621000" cy="58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5" idx="0"/>
            <a:endCxn id="193" idx="0"/>
          </p:cNvCxnSpPr>
          <p:nvPr/>
        </p:nvCxnSpPr>
        <p:spPr>
          <a:xfrm>
            <a:off x="2552760" y="3048120"/>
            <a:ext cx="1753200" cy="121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8" name=""/>
          <p:cNvCxnSpPr>
            <a:stCxn id="192" idx="2"/>
            <a:endCxn id="190" idx="6"/>
          </p:cNvCxnSpPr>
          <p:nvPr/>
        </p:nvCxnSpPr>
        <p:spPr>
          <a:xfrm flipH="1">
            <a:off x="3047400" y="3695400"/>
            <a:ext cx="15300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92" idx="3"/>
            <a:endCxn id="194" idx="6"/>
          </p:cNvCxnSpPr>
          <p:nvPr/>
        </p:nvCxnSpPr>
        <p:spPr>
          <a:xfrm>
            <a:off x="3211560" y="3722400"/>
            <a:ext cx="751680" cy="180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0" name=""/>
          <p:cNvSpPr/>
          <p:nvPr/>
        </p:nvSpPr>
        <p:spPr>
          <a:xfrm>
            <a:off x="4267080" y="4724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3" idx="4"/>
            <a:endCxn id="200" idx="1"/>
          </p:cNvCxnSpPr>
          <p:nvPr/>
        </p:nvCxnSpPr>
        <p:spPr>
          <a:xfrm flipH="1">
            <a:off x="4277520" y="4343040"/>
            <a:ext cx="27720" cy="392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93" idx="6"/>
            <a:endCxn id="191" idx="2"/>
          </p:cNvCxnSpPr>
          <p:nvPr/>
        </p:nvCxnSpPr>
        <p:spPr>
          <a:xfrm>
            <a:off x="4343400" y="4304880"/>
            <a:ext cx="2286720" cy="160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33228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260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748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2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85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752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750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9672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6832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11320" y="3505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32040" y="4648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44640" y="4495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812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213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40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787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9764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643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5612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86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D5670-C020-481B-82B0-6E3027BFAF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uction of the Implicit S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 the Removal of 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abxa, abxa, bxa, xa, a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075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8" idx="3"/>
            <a:endCxn id="231" idx="4"/>
          </p:cNvCxnSpPr>
          <p:nvPr/>
        </p:nvCxnSpPr>
        <p:spPr>
          <a:xfrm flipH="1">
            <a:off x="723240" y="3112920"/>
            <a:ext cx="1802520" cy="206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685800" y="5105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5867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28" idx="6"/>
            <a:endCxn id="232" idx="6"/>
          </p:cNvCxnSpPr>
          <p:nvPr/>
        </p:nvCxnSpPr>
        <p:spPr>
          <a:xfrm>
            <a:off x="2590560" y="3085920"/>
            <a:ext cx="108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28" idx="5"/>
            <a:endCxn id="235" idx="2"/>
          </p:cNvCxnSpPr>
          <p:nvPr/>
        </p:nvCxnSpPr>
        <p:spPr>
          <a:xfrm>
            <a:off x="2579760" y="3112560"/>
            <a:ext cx="621000" cy="58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0" name=""/>
          <p:cNvCxnSpPr>
            <a:stCxn id="228" idx="0"/>
            <a:endCxn id="236" idx="0"/>
          </p:cNvCxnSpPr>
          <p:nvPr/>
        </p:nvCxnSpPr>
        <p:spPr>
          <a:xfrm>
            <a:off x="2552760" y="3048120"/>
            <a:ext cx="1753200" cy="121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1" name=""/>
          <p:cNvCxnSpPr>
            <a:stCxn id="235" idx="2"/>
            <a:endCxn id="233" idx="6"/>
          </p:cNvCxnSpPr>
          <p:nvPr/>
        </p:nvCxnSpPr>
        <p:spPr>
          <a:xfrm flipH="1">
            <a:off x="3047400" y="3695400"/>
            <a:ext cx="15300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2" name=""/>
          <p:cNvCxnSpPr>
            <a:stCxn id="235" idx="3"/>
            <a:endCxn id="237" idx="6"/>
          </p:cNvCxnSpPr>
          <p:nvPr/>
        </p:nvCxnSpPr>
        <p:spPr>
          <a:xfrm>
            <a:off x="3211560" y="3722400"/>
            <a:ext cx="751680" cy="180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4267080" y="4724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36" idx="4"/>
            <a:endCxn id="243" idx="1"/>
          </p:cNvCxnSpPr>
          <p:nvPr/>
        </p:nvCxnSpPr>
        <p:spPr>
          <a:xfrm flipH="1">
            <a:off x="4277520" y="4343040"/>
            <a:ext cx="27720" cy="392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5" name=""/>
          <p:cNvCxnSpPr>
            <a:stCxn id="236" idx="6"/>
            <a:endCxn id="234" idx="2"/>
          </p:cNvCxnSpPr>
          <p:nvPr/>
        </p:nvCxnSpPr>
        <p:spPr>
          <a:xfrm>
            <a:off x="4343400" y="4304880"/>
            <a:ext cx="2286720" cy="160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33228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260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748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02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85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752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750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9672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6832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11320" y="3505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32040" y="4648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44640" y="4495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643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5612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6686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E894E-2EC6-4426-ADDD-253C28AFE05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963440"/>
            <a:ext cx="87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x Trees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STs in linear tim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kkonen’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 of 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251F3-FF18-4710-9B31-5B3A6622B2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uction of the Implicit S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move unlabeled e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unlabeled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abxa, abxa, bxa, xa, a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75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5" idx="3"/>
            <a:endCxn id="268" idx="4"/>
          </p:cNvCxnSpPr>
          <p:nvPr/>
        </p:nvCxnSpPr>
        <p:spPr>
          <a:xfrm flipH="1">
            <a:off x="723240" y="3112920"/>
            <a:ext cx="1802520" cy="206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685800" y="5105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29400" y="5867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004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6708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86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"/>
          <p:cNvCxnSpPr>
            <a:stCxn id="265" idx="6"/>
            <a:endCxn id="269" idx="6"/>
          </p:cNvCxnSpPr>
          <p:nvPr/>
        </p:nvCxnSpPr>
        <p:spPr>
          <a:xfrm>
            <a:off x="2590560" y="3085920"/>
            <a:ext cx="1080" cy="61020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76" name=""/>
          <p:cNvCxnSpPr>
            <a:stCxn id="265" idx="5"/>
            <a:endCxn id="272" idx="2"/>
          </p:cNvCxnSpPr>
          <p:nvPr/>
        </p:nvCxnSpPr>
        <p:spPr>
          <a:xfrm>
            <a:off x="2579760" y="3112560"/>
            <a:ext cx="621000" cy="58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5" idx="0"/>
            <a:endCxn id="273" idx="0"/>
          </p:cNvCxnSpPr>
          <p:nvPr/>
        </p:nvCxnSpPr>
        <p:spPr>
          <a:xfrm>
            <a:off x="2552760" y="3048120"/>
            <a:ext cx="1753200" cy="121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2" idx="2"/>
            <a:endCxn id="270" idx="6"/>
          </p:cNvCxnSpPr>
          <p:nvPr/>
        </p:nvCxnSpPr>
        <p:spPr>
          <a:xfrm flipH="1">
            <a:off x="3047400" y="3695400"/>
            <a:ext cx="153000" cy="61020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79" name=""/>
          <p:cNvCxnSpPr>
            <a:stCxn id="272" idx="3"/>
            <a:endCxn id="274" idx="6"/>
          </p:cNvCxnSpPr>
          <p:nvPr/>
        </p:nvCxnSpPr>
        <p:spPr>
          <a:xfrm>
            <a:off x="3211560" y="3722400"/>
            <a:ext cx="751680" cy="180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4267080" y="4724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"/>
          <p:cNvCxnSpPr>
            <a:stCxn id="273" idx="4"/>
            <a:endCxn id="280" idx="1"/>
          </p:cNvCxnSpPr>
          <p:nvPr/>
        </p:nvCxnSpPr>
        <p:spPr>
          <a:xfrm flipH="1">
            <a:off x="4277520" y="4343040"/>
            <a:ext cx="27720" cy="39276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82" name=""/>
          <p:cNvCxnSpPr>
            <a:stCxn id="273" idx="6"/>
            <a:endCxn id="271" idx="2"/>
          </p:cNvCxnSpPr>
          <p:nvPr/>
        </p:nvCxnSpPr>
        <p:spPr>
          <a:xfrm>
            <a:off x="4343400" y="4304880"/>
            <a:ext cx="2286720" cy="160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33228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60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748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02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785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752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750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9672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6832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11320" y="3505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32040" y="4648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44640" y="4495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643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5612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686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7FADD-AD53-4133-A385-619CF1D2D88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uction of the Implicit S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 the Removal of Unlabeled E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unlabeled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abxa, abxa, bxa, xa, a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1460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075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"/>
          <p:cNvCxnSpPr>
            <a:stCxn id="302" idx="3"/>
            <a:endCxn id="305" idx="4"/>
          </p:cNvCxnSpPr>
          <p:nvPr/>
        </p:nvCxnSpPr>
        <p:spPr>
          <a:xfrm flipH="1">
            <a:off x="723240" y="3112920"/>
            <a:ext cx="1802520" cy="206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5" name=""/>
          <p:cNvSpPr/>
          <p:nvPr/>
        </p:nvSpPr>
        <p:spPr>
          <a:xfrm>
            <a:off x="685800" y="5105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5867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86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2" idx="5"/>
            <a:endCxn id="307" idx="2"/>
          </p:cNvCxnSpPr>
          <p:nvPr/>
        </p:nvCxnSpPr>
        <p:spPr>
          <a:xfrm>
            <a:off x="2579760" y="3112560"/>
            <a:ext cx="621000" cy="58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2" idx="0"/>
            <a:endCxn id="308" idx="0"/>
          </p:cNvCxnSpPr>
          <p:nvPr/>
        </p:nvCxnSpPr>
        <p:spPr>
          <a:xfrm>
            <a:off x="2552760" y="3048120"/>
            <a:ext cx="1753200" cy="121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7" idx="3"/>
            <a:endCxn id="309" idx="6"/>
          </p:cNvCxnSpPr>
          <p:nvPr/>
        </p:nvCxnSpPr>
        <p:spPr>
          <a:xfrm>
            <a:off x="3211560" y="3722400"/>
            <a:ext cx="751680" cy="180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08" idx="6"/>
            <a:endCxn id="306" idx="2"/>
          </p:cNvCxnSpPr>
          <p:nvPr/>
        </p:nvCxnSpPr>
        <p:spPr>
          <a:xfrm>
            <a:off x="4343400" y="4304880"/>
            <a:ext cx="2286720" cy="160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33228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260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8748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02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785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752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750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9672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832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11320" y="3505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32040" y="4648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44640" y="4495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643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8528-2E38-401F-9D54-805504196AB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uction of the Implicit S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move interior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internal nodes with only one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abxa, abxa, bxa, xa, a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1460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075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0" idx="3"/>
            <a:endCxn id="333" idx="4"/>
          </p:cNvCxnSpPr>
          <p:nvPr/>
        </p:nvCxnSpPr>
        <p:spPr>
          <a:xfrm flipH="1">
            <a:off x="723240" y="3112920"/>
            <a:ext cx="1802520" cy="206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85800" y="5105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629400" y="5867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6708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86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"/>
          <p:cNvCxnSpPr>
            <a:stCxn id="330" idx="5"/>
            <a:endCxn id="335" idx="2"/>
          </p:cNvCxnSpPr>
          <p:nvPr/>
        </p:nvCxnSpPr>
        <p:spPr>
          <a:xfrm>
            <a:off x="2579760" y="3112560"/>
            <a:ext cx="621000" cy="58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39" name=""/>
          <p:cNvCxnSpPr>
            <a:stCxn id="330" idx="0"/>
            <a:endCxn id="336" idx="0"/>
          </p:cNvCxnSpPr>
          <p:nvPr/>
        </p:nvCxnSpPr>
        <p:spPr>
          <a:xfrm>
            <a:off x="2552760" y="3048120"/>
            <a:ext cx="1753200" cy="121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335" idx="3"/>
            <a:endCxn id="337" idx="6"/>
          </p:cNvCxnSpPr>
          <p:nvPr/>
        </p:nvCxnSpPr>
        <p:spPr>
          <a:xfrm>
            <a:off x="3211560" y="3722400"/>
            <a:ext cx="751680" cy="180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6" idx="6"/>
            <a:endCxn id="334" idx="2"/>
          </p:cNvCxnSpPr>
          <p:nvPr/>
        </p:nvCxnSpPr>
        <p:spPr>
          <a:xfrm>
            <a:off x="4343400" y="4304880"/>
            <a:ext cx="2286720" cy="160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2" name=""/>
          <p:cNvSpPr/>
          <p:nvPr/>
        </p:nvSpPr>
        <p:spPr>
          <a:xfrm>
            <a:off x="33228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260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748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02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785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752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750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9672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66832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11320" y="3505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32040" y="4648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44640" y="4495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643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128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00400" y="3657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67080" y="4267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47AC4-985A-4EA5-BFA0-4CA70CF2F4D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uction of the Implicit S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nal implicit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internal nodes with only one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abxa, abxa, bxa, xa, a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1460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7075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"/>
          <p:cNvCxnSpPr>
            <a:stCxn id="360" idx="3"/>
            <a:endCxn id="363" idx="4"/>
          </p:cNvCxnSpPr>
          <p:nvPr/>
        </p:nvCxnSpPr>
        <p:spPr>
          <a:xfrm flipH="1">
            <a:off x="723240" y="3112920"/>
            <a:ext cx="1802520" cy="206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685800" y="5105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629400" y="5867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86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"/>
          <p:cNvCxnSpPr>
            <a:stCxn id="360" idx="5"/>
            <a:endCxn id="365" idx="1"/>
          </p:cNvCxnSpPr>
          <p:nvPr/>
        </p:nvCxnSpPr>
        <p:spPr>
          <a:xfrm>
            <a:off x="2579760" y="3112920"/>
            <a:ext cx="1318320" cy="238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7" name=""/>
          <p:cNvCxnSpPr>
            <a:stCxn id="360" idx="0"/>
            <a:endCxn id="364" idx="4"/>
          </p:cNvCxnSpPr>
          <p:nvPr/>
        </p:nvCxnSpPr>
        <p:spPr>
          <a:xfrm>
            <a:off x="2552760" y="3047760"/>
            <a:ext cx="4115520" cy="2896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8" name=""/>
          <p:cNvSpPr/>
          <p:nvPr/>
        </p:nvSpPr>
        <p:spPr>
          <a:xfrm>
            <a:off x="28213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6888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748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02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785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5012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97360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29672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668320" y="358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11320" y="3505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54320" y="4343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643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128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0458D-D4ED-4E3B-A47B-45366225E57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6000" y="406440"/>
            <a:ext cx="892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kkonen’s Algorithm (U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07880" y="1671120"/>
            <a:ext cx="8483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implicit suffix tree of the string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[1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* Construct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i+1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i 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= 1 to m-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* phas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 = 1 to i+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* extension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end of the path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root whose label i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, 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extend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uffix extension rul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 a suffix tre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6DA52-D6C7-4D28-AABA-F7CADE1DB54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6024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xabxacd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x to x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xa to xa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a to a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648F8-751B-4245-A2AC-C30BB741DE3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tension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07880" y="1633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tend each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,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,i+1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,i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ds at a le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character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(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end of the label on that leaf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,i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esn’t end at a leaf, and the following character is not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 a new leaf edge for character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(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need to create an internal node if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j,i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s in the middle of an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 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,i+1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lready in the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A32B-F824-4ADA-9D46-12634A904AC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tree fo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xabx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ree fo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xab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297080" y="2895480"/>
            <a:ext cx="5743440" cy="3355560"/>
            <a:chOff x="1297080" y="2895480"/>
            <a:chExt cx="5743440" cy="3355560"/>
          </a:xfrm>
        </p:grpSpPr>
        <p:sp>
          <p:nvSpPr>
            <p:cNvPr id="391" name=""/>
            <p:cNvSpPr/>
            <p:nvPr/>
          </p:nvSpPr>
          <p:spPr>
            <a:xfrm>
              <a:off x="2514600" y="3048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07520" y="5791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"/>
            <p:cNvCxnSpPr>
              <a:stCxn id="391" idx="3"/>
              <a:endCxn id="394" idx="4"/>
            </p:cNvCxnSpPr>
            <p:nvPr/>
          </p:nvCxnSpPr>
          <p:spPr>
            <a:xfrm flipH="1">
              <a:off x="1485720" y="3112560"/>
              <a:ext cx="1040400" cy="1002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94" name=""/>
            <p:cNvSpPr/>
            <p:nvPr/>
          </p:nvSpPr>
          <p:spPr>
            <a:xfrm>
              <a:off x="1447920" y="4038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5867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76720" y="3505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54864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8" name=""/>
            <p:cNvCxnSpPr>
              <a:stCxn id="391" idx="0"/>
              <a:endCxn id="396" idx="0"/>
            </p:cNvCxnSpPr>
            <p:nvPr/>
          </p:nvCxnSpPr>
          <p:spPr>
            <a:xfrm>
              <a:off x="2552400" y="3048120"/>
              <a:ext cx="762840" cy="457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99" name=""/>
            <p:cNvCxnSpPr>
              <a:stCxn id="391" idx="4"/>
              <a:endCxn id="397" idx="6"/>
            </p:cNvCxnSpPr>
            <p:nvPr/>
          </p:nvCxnSpPr>
          <p:spPr>
            <a:xfrm flipH="1">
              <a:off x="1751760" y="3124080"/>
              <a:ext cx="801000" cy="2401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0" name=""/>
            <p:cNvCxnSpPr>
              <a:stCxn id="396" idx="6"/>
              <a:endCxn id="395" idx="2"/>
            </p:cNvCxnSpPr>
            <p:nvPr/>
          </p:nvCxnSpPr>
          <p:spPr>
            <a:xfrm>
              <a:off x="3352680" y="3543120"/>
              <a:ext cx="3277440" cy="23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01" name=""/>
            <p:cNvSpPr/>
            <p:nvPr/>
          </p:nvSpPr>
          <p:spPr>
            <a:xfrm>
              <a:off x="1754280" y="426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21520" y="396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74880" y="304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0200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5140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78720" y="426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5920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06200" y="3809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49200" y="3657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972880" y="2895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54280" y="5410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94200" y="47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0320" y="47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76720" y="47242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"/>
            <p:cNvCxnSpPr>
              <a:stCxn id="396" idx="6"/>
              <a:endCxn id="414" idx="6"/>
            </p:cNvCxnSpPr>
            <p:nvPr/>
          </p:nvCxnSpPr>
          <p:spPr>
            <a:xfrm>
              <a:off x="3352320" y="3543480"/>
              <a:ext cx="1080" cy="1219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16" name=""/>
            <p:cNvSpPr/>
            <p:nvPr/>
          </p:nvSpPr>
          <p:spPr>
            <a:xfrm>
              <a:off x="3017880" y="373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17880" y="403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97080" y="4114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341720" y="3657600"/>
            <a:ext cx="4327200" cy="1907640"/>
            <a:chOff x="1341720" y="3657600"/>
            <a:chExt cx="4327200" cy="1907640"/>
          </a:xfrm>
        </p:grpSpPr>
        <p:sp>
          <p:nvSpPr>
            <p:cNvPr id="420" name=""/>
            <p:cNvSpPr/>
            <p:nvPr/>
          </p:nvSpPr>
          <p:spPr>
            <a:xfrm>
              <a:off x="301788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35920" y="457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49720" y="5105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4172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514800" y="609588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1: at a leaf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748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7840" y="6095880"/>
            <a:ext cx="28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3: already in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6680" y="6095880"/>
            <a:ext cx="57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2: add a leaf edge (and an interior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209680" y="3962520"/>
            <a:ext cx="379440" cy="916920"/>
            <a:chOff x="2209680" y="3962520"/>
            <a:chExt cx="379440" cy="916920"/>
          </a:xfrm>
        </p:grpSpPr>
        <p:sp>
          <p:nvSpPr>
            <p:cNvPr id="429" name=""/>
            <p:cNvSpPr/>
            <p:nvPr/>
          </p:nvSpPr>
          <p:spPr>
            <a:xfrm>
              <a:off x="2256120" y="396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09680" y="39625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09680" y="43434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2" name=""/>
            <p:cNvCxnSpPr>
              <a:stCxn id="430" idx="6"/>
              <a:endCxn id="431" idx="5"/>
            </p:cNvCxnSpPr>
            <p:nvPr/>
          </p:nvCxnSpPr>
          <p:spPr>
            <a:xfrm flipH="1">
              <a:off x="2274120" y="4000320"/>
              <a:ext cx="11880" cy="4086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</a:ln>
          </p:spPr>
        </p:cxnSp>
        <p:sp>
          <p:nvSpPr>
            <p:cNvPr id="433" name=""/>
            <p:cNvSpPr/>
            <p:nvPr/>
          </p:nvSpPr>
          <p:spPr>
            <a:xfrm>
              <a:off x="2211480" y="441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30F7A-0701-4C7D-ACD5-32CFDE5B4BC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6000" y="457200"/>
            <a:ext cx="892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A for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xabxc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649440" y="2001960"/>
            <a:ext cx="7619760" cy="30225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952560" y="5029200"/>
            <a:ext cx="486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562040" y="509256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009960" y="5170320"/>
            <a:ext cx="3009600" cy="1268640"/>
            <a:chOff x="3009960" y="5170320"/>
            <a:chExt cx="3009600" cy="1268640"/>
          </a:xfrm>
        </p:grpSpPr>
        <p:grpSp>
          <p:nvGrpSpPr>
            <p:cNvPr id="439" name=""/>
            <p:cNvGrpSpPr/>
            <p:nvPr/>
          </p:nvGrpSpPr>
          <p:grpSpPr>
            <a:xfrm>
              <a:off x="3017880" y="5171760"/>
              <a:ext cx="2992680" cy="1265040"/>
              <a:chOff x="3017880" y="5171760"/>
              <a:chExt cx="2992680" cy="126504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3017880" y="5171760"/>
                <a:ext cx="2992680" cy="403560"/>
                <a:chOff x="3017880" y="5171760"/>
                <a:chExt cx="2992680" cy="40356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3135240" y="5171760"/>
                  <a:ext cx="2757600" cy="4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[1,3]=ax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017880" y="5171760"/>
                  <a:ext cx="2992680" cy="40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3017880" y="5575320"/>
                <a:ext cx="817200" cy="264960"/>
                <a:chOff x="3017880" y="5575320"/>
                <a:chExt cx="817200" cy="2649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3135240" y="5575320"/>
                  <a:ext cx="58248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017880" y="5575320"/>
                  <a:ext cx="817200" cy="26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3835440" y="5575320"/>
                <a:ext cx="1013400" cy="264960"/>
                <a:chOff x="3835440" y="5575320"/>
                <a:chExt cx="1013400" cy="2649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3952800" y="5575320"/>
                  <a:ext cx="77904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(j,i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835440" y="5575320"/>
                  <a:ext cx="1013400" cy="26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4849200" y="5575320"/>
                <a:ext cx="1161000" cy="264960"/>
                <a:chOff x="4849200" y="5575320"/>
                <a:chExt cx="1161000" cy="26496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4966560" y="5575320"/>
                  <a:ext cx="92628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(i+1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849200" y="5575320"/>
                  <a:ext cx="1161000" cy="26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3017880" y="5840280"/>
                <a:ext cx="817200" cy="198720"/>
                <a:chOff x="3017880" y="5840280"/>
                <a:chExt cx="817200" cy="19872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3135240" y="5840280"/>
                  <a:ext cx="58248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017880" y="5840280"/>
                  <a:ext cx="817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3835440" y="5840280"/>
                <a:ext cx="1013400" cy="198720"/>
                <a:chOff x="3835440" y="5840280"/>
                <a:chExt cx="1013400" cy="19872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952800" y="5840280"/>
                  <a:ext cx="77904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835440" y="5840280"/>
                  <a:ext cx="10134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4849200" y="5840280"/>
                <a:ext cx="1161000" cy="198720"/>
                <a:chOff x="4849200" y="5840280"/>
                <a:chExt cx="1161000" cy="19872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966560" y="5840280"/>
                  <a:ext cx="92628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849200" y="5840280"/>
                  <a:ext cx="11610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3017880" y="6039360"/>
                <a:ext cx="817200" cy="198720"/>
                <a:chOff x="3017880" y="6039360"/>
                <a:chExt cx="817200" cy="1987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135240" y="6039360"/>
                  <a:ext cx="58248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017880" y="6039360"/>
                  <a:ext cx="817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3835440" y="6039360"/>
                <a:ext cx="1013400" cy="198720"/>
                <a:chOff x="3835440" y="6039360"/>
                <a:chExt cx="1013400" cy="1987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3952800" y="6039360"/>
                  <a:ext cx="77904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3835440" y="6039360"/>
                  <a:ext cx="10134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4849200" y="6039360"/>
                <a:ext cx="1161000" cy="198720"/>
                <a:chOff x="4849200" y="6039360"/>
                <a:chExt cx="1161000" cy="19872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4966560" y="6039360"/>
                  <a:ext cx="92628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849200" y="6039360"/>
                  <a:ext cx="11610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3017880" y="6238080"/>
                <a:ext cx="817200" cy="198720"/>
                <a:chOff x="3017880" y="6238080"/>
                <a:chExt cx="817200" cy="1987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3135240" y="6238080"/>
                  <a:ext cx="58248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017880" y="6238080"/>
                  <a:ext cx="817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3835440" y="6238080"/>
                <a:ext cx="1013400" cy="198720"/>
                <a:chOff x="3835440" y="6238080"/>
                <a:chExt cx="1013400" cy="1987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952800" y="6238080"/>
                  <a:ext cx="77904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835440" y="6238080"/>
                  <a:ext cx="10134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4849200" y="6238080"/>
                <a:ext cx="1161000" cy="198720"/>
                <a:chOff x="4849200" y="6238080"/>
                <a:chExt cx="1161000" cy="1987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4966560" y="6238080"/>
                  <a:ext cx="92628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849200" y="6238080"/>
                  <a:ext cx="11610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9" name=""/>
            <p:cNvSpPr/>
            <p:nvPr/>
          </p:nvSpPr>
          <p:spPr>
            <a:xfrm>
              <a:off x="3009960" y="5170320"/>
              <a:ext cx="3009600" cy="1268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21E39-F14B-43C5-839F-6F3F5A7D90A8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4160" y="444600"/>
            <a:ext cx="8051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A for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xabxc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95280" y="1646280"/>
            <a:ext cx="7886880" cy="4521240"/>
            <a:chOff x="395280" y="1646280"/>
            <a:chExt cx="7886880" cy="4521240"/>
          </a:xfrm>
        </p:grpSpPr>
        <p:pic>
          <p:nvPicPr>
            <p:cNvPr id="482" name="" descr=""/>
            <p:cNvPicPr/>
            <p:nvPr/>
          </p:nvPicPr>
          <p:blipFill>
            <a:blip r:embed="rId1"/>
            <a:stretch/>
          </p:blipFill>
          <p:spPr>
            <a:xfrm>
              <a:off x="395280" y="1646280"/>
              <a:ext cx="788688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3086280" y="1714680"/>
              <a:ext cx="2311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49FE9-144D-4606-92F3-EE1B139D48CA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CC1A4-EE21-4229-8C29-25EAF44D00C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A for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xabxc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FFD13-F345-4F1C-AC80-C6F04B0B2C0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A for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xabxc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95280" y="1925640"/>
            <a:ext cx="7620120" cy="4303440"/>
            <a:chOff x="395280" y="1925640"/>
            <a:chExt cx="7620120" cy="4303440"/>
          </a:xfrm>
        </p:grpSpPr>
        <p:pic>
          <p:nvPicPr>
            <p:cNvPr id="488" name="" descr=""/>
            <p:cNvPicPr/>
            <p:nvPr/>
          </p:nvPicPr>
          <p:blipFill>
            <a:blip r:embed="rId1"/>
            <a:stretch/>
          </p:blipFill>
          <p:spPr>
            <a:xfrm>
              <a:off x="395280" y="1925640"/>
              <a:ext cx="7620120" cy="39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4697640" y="5771520"/>
              <a:ext cx="2222640" cy="4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329BE-6210-449B-A287-28A780781FDD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95280" y="1633320"/>
            <a:ext cx="8432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j,i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located in the tree, extension rules take only constan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ively we could find the end of any suffix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j,i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O(S[j,i]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walking from the root of the current tree. By that approach,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created in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O(m</a:t>
            </a:r>
            <a:r>
              <a:rPr b="0" i="1" lang="en-U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Ukkonen’s algorithm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O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x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p and count tr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-label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 leaf, always a 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4F3D1-32AD-4435-B344-4C5B629BE61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ffix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95280" y="1646280"/>
            <a:ext cx="822960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two string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some internal nod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tree is labeled wit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nother nod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(v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tree is labeled wit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dg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v,s(v)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ffix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all internal nodes (the root is not considered an internal node) have suffix lin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092240" y="4813200"/>
            <a:ext cx="551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655640" y="4125960"/>
            <a:ext cx="5070600" cy="24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7B9DF-B791-45F1-9531-C2C46BDB9B3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x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ACACACAC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412280" y="2425680"/>
            <a:ext cx="6321960" cy="3048120"/>
            <a:chOff x="1412280" y="2425680"/>
            <a:chExt cx="6321960" cy="3048120"/>
          </a:xfrm>
        </p:grpSpPr>
        <p:sp>
          <p:nvSpPr>
            <p:cNvPr id="499" name=""/>
            <p:cNvSpPr/>
            <p:nvPr/>
          </p:nvSpPr>
          <p:spPr>
            <a:xfrm>
              <a:off x="3848040" y="2654280"/>
              <a:ext cx="30492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90840" y="3263760"/>
              <a:ext cx="30492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81360" y="4025880"/>
              <a:ext cx="30492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47840" y="4559400"/>
              <a:ext cx="30492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62040" y="5321160"/>
              <a:ext cx="30492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43480" y="3720960"/>
              <a:ext cx="30456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57680" y="4483080"/>
              <a:ext cx="30456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53160" y="2806560"/>
              <a:ext cx="30492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476440" y="5321160"/>
              <a:ext cx="30492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86480" y="3263760"/>
              <a:ext cx="30456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48240" y="4102200"/>
              <a:ext cx="30492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286680" y="3797280"/>
              <a:ext cx="30456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429680" y="5245200"/>
              <a:ext cx="30456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277040" y="4406760"/>
              <a:ext cx="30492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667560" y="5245200"/>
              <a:ext cx="30492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58080" y="4635360"/>
              <a:ext cx="30456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41080" y="27306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6" name=""/>
            <p:cNvCxnSpPr>
              <a:stCxn id="499" idx="3"/>
              <a:endCxn id="500" idx="0"/>
            </p:cNvCxnSpPr>
            <p:nvPr/>
          </p:nvCxnSpPr>
          <p:spPr>
            <a:xfrm flipH="1">
              <a:off x="3543120" y="2784240"/>
              <a:ext cx="349920" cy="47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500" idx="3"/>
              <a:endCxn id="501" idx="0"/>
            </p:cNvCxnSpPr>
            <p:nvPr/>
          </p:nvCxnSpPr>
          <p:spPr>
            <a:xfrm flipH="1">
              <a:off x="2933280" y="3393720"/>
              <a:ext cx="502560" cy="63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501" idx="3"/>
              <a:endCxn id="502" idx="7"/>
            </p:cNvCxnSpPr>
            <p:nvPr/>
          </p:nvCxnSpPr>
          <p:spPr>
            <a:xfrm flipH="1">
              <a:off x="2508120" y="4155840"/>
              <a:ext cx="317880" cy="42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9" name=""/>
            <p:cNvSpPr/>
            <p:nvPr/>
          </p:nvSpPr>
          <p:spPr>
            <a:xfrm>
              <a:off x="1412280" y="463536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098080" y="402588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07560" y="34164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2" name=""/>
            <p:cNvCxnSpPr>
              <a:stCxn id="502" idx="3"/>
              <a:endCxn id="503" idx="7"/>
            </p:cNvCxnSpPr>
            <p:nvPr/>
          </p:nvCxnSpPr>
          <p:spPr>
            <a:xfrm flipH="1">
              <a:off x="1821960" y="4689000"/>
              <a:ext cx="470880" cy="65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502" idx="4"/>
              <a:endCxn id="507" idx="0"/>
            </p:cNvCxnSpPr>
            <p:nvPr/>
          </p:nvCxnSpPr>
          <p:spPr>
            <a:xfrm>
              <a:off x="2400120" y="4711320"/>
              <a:ext cx="22932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501" idx="4"/>
              <a:endCxn id="505" idx="0"/>
            </p:cNvCxnSpPr>
            <p:nvPr/>
          </p:nvCxnSpPr>
          <p:spPr>
            <a:xfrm>
              <a:off x="2933640" y="4177800"/>
              <a:ext cx="766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5" name=""/>
            <p:cNvCxnSpPr>
              <a:stCxn id="500" idx="4"/>
              <a:endCxn id="504" idx="1"/>
            </p:cNvCxnSpPr>
            <p:nvPr/>
          </p:nvCxnSpPr>
          <p:spPr>
            <a:xfrm>
              <a:off x="3543120" y="3416400"/>
              <a:ext cx="45000" cy="327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6" name=""/>
            <p:cNvSpPr/>
            <p:nvPr/>
          </p:nvSpPr>
          <p:spPr>
            <a:xfrm>
              <a:off x="2538720" y="4753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126560" y="463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73920" y="394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30920" y="3263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97760" y="2425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21240" y="3416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11760" y="4178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3" name=""/>
            <p:cNvCxnSpPr>
              <a:stCxn id="499" idx="6"/>
              <a:endCxn id="506" idx="2"/>
            </p:cNvCxnSpPr>
            <p:nvPr/>
          </p:nvCxnSpPr>
          <p:spPr>
            <a:xfrm>
              <a:off x="4152600" y="2730240"/>
              <a:ext cx="160092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4" name=""/>
            <p:cNvCxnSpPr>
              <a:stCxn id="499" idx="5"/>
              <a:endCxn id="508" idx="1"/>
            </p:cNvCxnSpPr>
            <p:nvPr/>
          </p:nvCxnSpPr>
          <p:spPr>
            <a:xfrm>
              <a:off x="4107960" y="2784240"/>
              <a:ext cx="623160" cy="501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08" idx="4"/>
              <a:endCxn id="509" idx="0"/>
            </p:cNvCxnSpPr>
            <p:nvPr/>
          </p:nvCxnSpPr>
          <p:spPr>
            <a:xfrm>
              <a:off x="4838400" y="3416040"/>
              <a:ext cx="76284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>
              <a:stCxn id="509" idx="5"/>
              <a:endCxn id="514" idx="0"/>
            </p:cNvCxnSpPr>
            <p:nvPr/>
          </p:nvCxnSpPr>
          <p:spPr>
            <a:xfrm>
              <a:off x="5708520" y="4232160"/>
              <a:ext cx="502560" cy="403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7" name=""/>
            <p:cNvSpPr/>
            <p:nvPr/>
          </p:nvSpPr>
          <p:spPr>
            <a:xfrm>
              <a:off x="4443480" y="2771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10360" y="4254480"/>
              <a:ext cx="77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45840" y="349236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29480" y="4863960"/>
              <a:ext cx="77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1" name=""/>
            <p:cNvCxnSpPr>
              <a:stCxn id="514" idx="5"/>
              <a:endCxn id="513" idx="0"/>
            </p:cNvCxnSpPr>
            <p:nvPr/>
          </p:nvCxnSpPr>
          <p:spPr>
            <a:xfrm>
              <a:off x="6318000" y="4765680"/>
              <a:ext cx="501840" cy="4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2" name=""/>
            <p:cNvCxnSpPr>
              <a:stCxn id="508" idx="6"/>
              <a:endCxn id="510" idx="1"/>
            </p:cNvCxnSpPr>
            <p:nvPr/>
          </p:nvCxnSpPr>
          <p:spPr>
            <a:xfrm>
              <a:off x="4991040" y="3340080"/>
              <a:ext cx="1340640" cy="4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3" name=""/>
            <p:cNvCxnSpPr>
              <a:stCxn id="509" idx="6"/>
              <a:endCxn id="512" idx="1"/>
            </p:cNvCxnSpPr>
            <p:nvPr/>
          </p:nvCxnSpPr>
          <p:spPr>
            <a:xfrm>
              <a:off x="5752800" y="4177800"/>
              <a:ext cx="1569240" cy="25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4" name=""/>
            <p:cNvCxnSpPr>
              <a:stCxn id="514" idx="6"/>
              <a:endCxn id="511" idx="0"/>
            </p:cNvCxnSpPr>
            <p:nvPr/>
          </p:nvCxnSpPr>
          <p:spPr>
            <a:xfrm>
              <a:off x="6362280" y="4711680"/>
              <a:ext cx="122004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5" name=""/>
            <p:cNvSpPr/>
            <p:nvPr/>
          </p:nvSpPr>
          <p:spPr>
            <a:xfrm>
              <a:off x="2552760" y="4635360"/>
              <a:ext cx="3505320" cy="763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3085920" y="4101840"/>
              <a:ext cx="2971800" cy="53316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86280" y="4102200"/>
              <a:ext cx="2361960" cy="7596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 flipV="1">
              <a:off x="3695760" y="3339720"/>
              <a:ext cx="1752480" cy="7621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48040" y="3340080"/>
              <a:ext cx="83844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flipV="1">
              <a:off x="4076640" y="3187440"/>
              <a:ext cx="609840" cy="15228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4000320" y="2806200"/>
              <a:ext cx="75960" cy="38124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FCC4C-D269-4D8F-B4CB-B836C6726D30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ffix Link Le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5280" y="16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w internal nod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path-label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dded to the current tree in extensio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ome phas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h labe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ready ends at an internal node of the tree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l node labe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created in the extension of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same phas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mpty and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(v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778A7-FBAA-411C-B149-C1850FAC0E1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of of Suffix Link Le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07880" y="1620360"/>
            <a:ext cx="8521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internal node is created only by t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xtension ru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that there are two distinct suffixes of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1,i+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tart with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ac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that there are two distinct suffixes of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[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1,i+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tart with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c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i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empty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label an internal node once extension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rocessed which is the extension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E0B20-9533-4B13-8AAE-598FB653E68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rollary of Suffix Link Le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95280" y="1671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Every internal node of an implicit 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x tree has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x link from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727200" y="2921040"/>
            <a:ext cx="725796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42053-B423-4A3A-8F87-4E5376BBC11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6880" y="571320"/>
            <a:ext cx="81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to use suffix link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2080" y="160020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S[1,i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end at a leaf since it is the longest string in the implicit tre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a pointer to this leaf in all cases and extend according t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ng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S[j+1,i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S[j,i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s at nod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internal node, set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set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 = parent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root, you must traverse from the root to find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S[j+1,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go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(v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egin search for the remaining portion of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S[j,i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8F775-3E39-4AEC-B46D-A8AA1AFEEAED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to use suffix lin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382680" y="1747800"/>
            <a:ext cx="7302240" cy="452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581B7-CCF3-4E77-BBD6-26084C9170D3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is any sequence of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ring of string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tring composed of characters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 = c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a substr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ty string is a substring of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0FFB2-A889-42F4-B43C-776E788B6CD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kip and Count Trick –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20840" y="164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ving down from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(v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directly implemented, takes time proportional to the number of characters com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olu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time proportional to the number of nodes in the path searched, instead of the number of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FD96A-5F38-4BFD-8910-7840BDBE4353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kip and Count Trick –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95280" y="14554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fter 4 nodes down-skips, the end of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S[j, i]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939960" y="2400480"/>
            <a:ext cx="6400800" cy="4190400"/>
            <a:chOff x="939960" y="2400480"/>
            <a:chExt cx="6400800" cy="4190400"/>
          </a:xfrm>
        </p:grpSpPr>
        <p:pic>
          <p:nvPicPr>
            <p:cNvPr id="568" name="" descr=""/>
            <p:cNvPicPr/>
            <p:nvPr/>
          </p:nvPicPr>
          <p:blipFill>
            <a:blip r:embed="rId1"/>
            <a:stretch/>
          </p:blipFill>
          <p:spPr>
            <a:xfrm>
              <a:off x="939960" y="2438280"/>
              <a:ext cx="6400800" cy="41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1384560" y="2400480"/>
              <a:ext cx="13590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E797B-5AC3-4D23-BF41-454C01BE67CC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kip and Count Trick –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160" y="1912680"/>
            <a:ext cx="8113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de-depth of v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ote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(ND(v)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s the number of nodes on the path from the root to the nod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mm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ny suffix link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v, s(v)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versed in Ukkonen’s algorithm, at that moment,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D(v) 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ND(s(v))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73E67-A7A3-4107-B307-5285DA179533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kip and Count Trick –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95280" y="1722240"/>
            <a:ext cx="7416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moment of traversing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v,s(v)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D(v) 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ND(s(v))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62160" y="2863800"/>
            <a:ext cx="6010200" cy="361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C0EA-FBF2-4CF4-AD48-769696636E2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kip and Count Trick –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92240" y="1747440"/>
            <a:ext cx="87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urrent node-dep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algorithm is the node depth of the node most recently visited by th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Using the skip and count trick, any phase of Ukkonen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lgorithm takes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Up-walk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decreases the current node-depth by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Su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fi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x link traversal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same as up-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Totall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the current node-depth is decreased 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No node has depth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&gt;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e total possible increment to the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node-depth is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AF2AB-304B-4771-846C-D31538A4FE1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dge Label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otential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of edge labels may requi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time for the algorithm is at least as large as the size of its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abcdefghijklmnopqrstuvw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length i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&lt;m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j = m(m+1)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problem can happen when the length of the string is arbitrarily larger than the alphabe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dges with pair of indices indicating beginning and end of positions of the substring in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A903-368E-4F9D-B9D8-76223A56DA5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ified Extension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 2: new leaf ed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h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edg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 edge (p, q) =&gt; (p, w) and (w + 1, 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 1: leaf edge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had to b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fore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rule 2 above and an induction argu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, q) =&gt; (p, q +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B067D-A421-46D2-8E16-04E9BDE369D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ll edge label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S = xabxa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048120" y="3048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7075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"/>
          <p:cNvCxnSpPr>
            <a:stCxn id="583" idx="3"/>
            <a:endCxn id="586" idx="4"/>
          </p:cNvCxnSpPr>
          <p:nvPr/>
        </p:nvCxnSpPr>
        <p:spPr>
          <a:xfrm flipH="1">
            <a:off x="1256760" y="3112920"/>
            <a:ext cx="1802520" cy="206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86" name=""/>
          <p:cNvSpPr/>
          <p:nvPr/>
        </p:nvSpPr>
        <p:spPr>
          <a:xfrm>
            <a:off x="1219320" y="5105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505320" y="4267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62920" y="5867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339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80060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419720" y="5486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3" name=""/>
          <p:cNvCxnSpPr>
            <a:stCxn id="583" idx="6"/>
            <a:endCxn id="587" idx="6"/>
          </p:cNvCxnSpPr>
          <p:nvPr/>
        </p:nvCxnSpPr>
        <p:spPr>
          <a:xfrm>
            <a:off x="3123720" y="3085920"/>
            <a:ext cx="108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4" name=""/>
          <p:cNvCxnSpPr>
            <a:stCxn id="583" idx="5"/>
            <a:endCxn id="590" idx="2"/>
          </p:cNvCxnSpPr>
          <p:nvPr/>
        </p:nvCxnSpPr>
        <p:spPr>
          <a:xfrm>
            <a:off x="3112560" y="3112560"/>
            <a:ext cx="621720" cy="58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5" name=""/>
          <p:cNvCxnSpPr>
            <a:stCxn id="583" idx="0"/>
            <a:endCxn id="591" idx="0"/>
          </p:cNvCxnSpPr>
          <p:nvPr/>
        </p:nvCxnSpPr>
        <p:spPr>
          <a:xfrm>
            <a:off x="3086280" y="3048120"/>
            <a:ext cx="1753200" cy="121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0" idx="2"/>
            <a:endCxn id="588" idx="6"/>
          </p:cNvCxnSpPr>
          <p:nvPr/>
        </p:nvCxnSpPr>
        <p:spPr>
          <a:xfrm flipH="1">
            <a:off x="3580920" y="3695400"/>
            <a:ext cx="15336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90" idx="3"/>
            <a:endCxn id="592" idx="6"/>
          </p:cNvCxnSpPr>
          <p:nvPr/>
        </p:nvCxnSpPr>
        <p:spPr>
          <a:xfrm>
            <a:off x="3744720" y="3722400"/>
            <a:ext cx="751320" cy="180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8" name=""/>
          <p:cNvSpPr/>
          <p:nvPr/>
        </p:nvSpPr>
        <p:spPr>
          <a:xfrm>
            <a:off x="4800600" y="4724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"/>
          <p:cNvCxnSpPr>
            <a:stCxn id="591" idx="4"/>
            <a:endCxn id="598" idx="1"/>
          </p:cNvCxnSpPr>
          <p:nvPr/>
        </p:nvCxnSpPr>
        <p:spPr>
          <a:xfrm flipH="1">
            <a:off x="4811040" y="4343040"/>
            <a:ext cx="27720" cy="392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00" name=""/>
          <p:cNvCxnSpPr>
            <a:stCxn id="591" idx="6"/>
            <a:endCxn id="589" idx="2"/>
          </p:cNvCxnSpPr>
          <p:nvPr/>
        </p:nvCxnSpPr>
        <p:spPr>
          <a:xfrm>
            <a:off x="4876920" y="4304880"/>
            <a:ext cx="2286720" cy="160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1" name=""/>
          <p:cNvSpPr/>
          <p:nvPr/>
        </p:nvSpPr>
        <p:spPr>
          <a:xfrm>
            <a:off x="38563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259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084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35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116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60880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00860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2988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0148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344480" y="3505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965560" y="4648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77800" y="4495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51164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5448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82132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738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31224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308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49748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480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892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022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77072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5732F-194C-4240-BA1F-0944CFAB6380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83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dge-label Com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S = xabxa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48120" y="3048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075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8" name=""/>
          <p:cNvCxnSpPr>
            <a:stCxn id="626" idx="3"/>
            <a:endCxn id="629" idx="4"/>
          </p:cNvCxnSpPr>
          <p:nvPr/>
        </p:nvCxnSpPr>
        <p:spPr>
          <a:xfrm flipH="1">
            <a:off x="1256760" y="3112920"/>
            <a:ext cx="1802520" cy="206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29" name=""/>
          <p:cNvSpPr/>
          <p:nvPr/>
        </p:nvSpPr>
        <p:spPr>
          <a:xfrm>
            <a:off x="1219320" y="5105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0481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505320" y="4267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162920" y="5867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7339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80060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419720" y="5486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"/>
          <p:cNvCxnSpPr>
            <a:stCxn id="626" idx="6"/>
            <a:endCxn id="630" idx="6"/>
          </p:cNvCxnSpPr>
          <p:nvPr/>
        </p:nvCxnSpPr>
        <p:spPr>
          <a:xfrm>
            <a:off x="3123720" y="3085920"/>
            <a:ext cx="108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7" name=""/>
          <p:cNvCxnSpPr>
            <a:stCxn id="626" idx="5"/>
            <a:endCxn id="633" idx="2"/>
          </p:cNvCxnSpPr>
          <p:nvPr/>
        </p:nvCxnSpPr>
        <p:spPr>
          <a:xfrm>
            <a:off x="3112560" y="3112560"/>
            <a:ext cx="621720" cy="58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8" name=""/>
          <p:cNvCxnSpPr>
            <a:stCxn id="626" idx="0"/>
            <a:endCxn id="634" idx="0"/>
          </p:cNvCxnSpPr>
          <p:nvPr/>
        </p:nvCxnSpPr>
        <p:spPr>
          <a:xfrm>
            <a:off x="3086280" y="3048120"/>
            <a:ext cx="1753200" cy="121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9" name=""/>
          <p:cNvCxnSpPr>
            <a:stCxn id="633" idx="2"/>
            <a:endCxn id="631" idx="6"/>
          </p:cNvCxnSpPr>
          <p:nvPr/>
        </p:nvCxnSpPr>
        <p:spPr>
          <a:xfrm flipH="1">
            <a:off x="3580920" y="3695400"/>
            <a:ext cx="15336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0" name=""/>
          <p:cNvCxnSpPr>
            <a:stCxn id="633" idx="3"/>
            <a:endCxn id="635" idx="6"/>
          </p:cNvCxnSpPr>
          <p:nvPr/>
        </p:nvCxnSpPr>
        <p:spPr>
          <a:xfrm>
            <a:off x="3744720" y="3722400"/>
            <a:ext cx="751320" cy="180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41" name=""/>
          <p:cNvSpPr/>
          <p:nvPr/>
        </p:nvSpPr>
        <p:spPr>
          <a:xfrm>
            <a:off x="4800600" y="4724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"/>
          <p:cNvCxnSpPr>
            <a:stCxn id="634" idx="4"/>
            <a:endCxn id="641" idx="1"/>
          </p:cNvCxnSpPr>
          <p:nvPr/>
        </p:nvCxnSpPr>
        <p:spPr>
          <a:xfrm flipH="1">
            <a:off x="4811040" y="4343040"/>
            <a:ext cx="27720" cy="392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3" name=""/>
          <p:cNvCxnSpPr>
            <a:stCxn id="634" idx="6"/>
            <a:endCxn id="632" idx="2"/>
          </p:cNvCxnSpPr>
          <p:nvPr/>
        </p:nvCxnSpPr>
        <p:spPr>
          <a:xfrm>
            <a:off x="4876920" y="4304880"/>
            <a:ext cx="2286720" cy="160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44" name=""/>
          <p:cNvSpPr/>
          <p:nvPr/>
        </p:nvSpPr>
        <p:spPr>
          <a:xfrm>
            <a:off x="3809520" y="312408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) [or (4,5)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06400" y="46483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049200" y="33526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439360" y="35053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49748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4480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941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022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77072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442520" y="37339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896560" y="40384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185720" y="42670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557320" y="44197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6C325-2314-4058-AFBF-DA71EF69C991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545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Stop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94920" y="1734840"/>
            <a:ext cx="8521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 any phase, if 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 extension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rule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applies 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xtension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it will also apply in all extensions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k&gt;j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until the end of the ph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ensions in phas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re done after the first execution of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ule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aid to be don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implici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is is in contrast to any extension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the end of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S[j, i]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xplicitly found. An extension of that kind is called and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explic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ence, we can end any phase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xtension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rule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a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12872-45D6-4A5F-8C4E-3D44CBF458FF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0120" y="2120760"/>
            <a:ext cx="8661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ce of string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tring composed of characters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&lt;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&lt;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&lt;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 = c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ty string is a subsequence of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E56A8-6310-4BA0-9E33-681BDE1B7F7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31640" y="72360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Once a leaf, always a lea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– (1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20840" y="1658520"/>
            <a:ext cx="8051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t some point in UA a leaf is created and labeled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or the suffix starting at position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hen that leaf will remain a leaf in all successive trees created during the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 any phase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there is an initial sequence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onsecutive extensions (starting with 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tens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) 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hich only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rule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applies, where let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1" i="1" lang="ru-RU" sz="28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be 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last extension in this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1" i="1" lang="ru-RU" sz="28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1" i="1" lang="ru-RU" sz="28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</a:rPr>
              <a:t>+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D5A48-8776-4E0A-A8A3-395E9E8FE619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19040" y="9651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Once a leaf, always a lea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– (2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Implicit extensions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for extensions 1 to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1" i="1" lang="ru-RU" sz="28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wr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n the leaf edge, where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s a symb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denoting the current end and is set to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+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t the begin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n later phases, we will not need to explicitly extend this leaf but rather can implicitly extend it by incrementing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ce in its global lo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Explicit extensions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from extension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1" i="1" lang="ru-RU" sz="28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</a:rPr>
              <a:t>+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l 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rule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 is foun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until extension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94636-40B2-4AC8-85D7-706F31CE54B9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47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Once a leaf, always a lea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– (3)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phas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4600" y="1963440"/>
            <a:ext cx="8342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j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ast explicit extension computed in phase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mplicitly extending all existing lea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ly compute successive extensions starting at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1" i="1" lang="ru-RU" sz="18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1" i="1" lang="en-US" sz="1800" spc="-1" strike="noStrike" baseline="-25000">
                <a:solidFill>
                  <a:srgbClr val="0000ff"/>
                </a:solidFill>
                <a:latin typeface="Times New Roman"/>
              </a:rPr>
              <a:t>+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ontinuing until reaching the first extension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j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ule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lies or no more extension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1" i="1" lang="ru-RU" sz="20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ff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j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o prepare to the next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are at most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licit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F110A-056B-4D0C-8904-214C7796F3A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49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Example: S=axaxbb$ -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221440" y="1544760"/>
            <a:ext cx="3466800" cy="80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 = 1,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901800" y="1422360"/>
            <a:ext cx="1600200" cy="1219320"/>
            <a:chOff x="901800" y="1422360"/>
            <a:chExt cx="1600200" cy="1219320"/>
          </a:xfrm>
        </p:grpSpPr>
        <p:sp>
          <p:nvSpPr>
            <p:cNvPr id="668" name=""/>
            <p:cNvSpPr/>
            <p:nvPr/>
          </p:nvSpPr>
          <p:spPr>
            <a:xfrm>
              <a:off x="2197080" y="1574640"/>
              <a:ext cx="304920" cy="3049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54080" y="2336760"/>
              <a:ext cx="457200" cy="3049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0" name=""/>
            <p:cNvCxnSpPr>
              <a:stCxn id="668" idx="3"/>
              <a:endCxn id="669" idx="0"/>
            </p:cNvCxnSpPr>
            <p:nvPr/>
          </p:nvCxnSpPr>
          <p:spPr>
            <a:xfrm flipH="1">
              <a:off x="1282320" y="1834920"/>
              <a:ext cx="959760" cy="501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671" name=""/>
            <p:cNvSpPr/>
            <p:nvPr/>
          </p:nvSpPr>
          <p:spPr>
            <a:xfrm>
              <a:off x="1359000" y="18032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1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901800" y="142236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5257800" y="2743200"/>
            <a:ext cx="3657600" cy="15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e = 2,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S[1,2] :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S[2,2] : rule 2, create(2,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돋움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901800" y="2946240"/>
            <a:ext cx="1600200" cy="1447920"/>
            <a:chOff x="901800" y="2946240"/>
            <a:chExt cx="1600200" cy="1447920"/>
          </a:xfrm>
        </p:grpSpPr>
        <p:sp>
          <p:nvSpPr>
            <p:cNvPr id="675" name=""/>
            <p:cNvSpPr/>
            <p:nvPr/>
          </p:nvSpPr>
          <p:spPr>
            <a:xfrm>
              <a:off x="2197080" y="3098520"/>
              <a:ext cx="304920" cy="3049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54080" y="4089240"/>
              <a:ext cx="457200" cy="3049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7" name=""/>
            <p:cNvCxnSpPr>
              <a:stCxn id="675" idx="3"/>
              <a:endCxn id="676" idx="0"/>
            </p:cNvCxnSpPr>
            <p:nvPr/>
          </p:nvCxnSpPr>
          <p:spPr>
            <a:xfrm flipH="1">
              <a:off x="1282320" y="3359160"/>
              <a:ext cx="959760" cy="730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678" name=""/>
            <p:cNvSpPr/>
            <p:nvPr/>
          </p:nvSpPr>
          <p:spPr>
            <a:xfrm>
              <a:off x="1359000" y="33271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1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01800" y="29462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92520" y="4089240"/>
              <a:ext cx="457200" cy="3049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1" name=""/>
            <p:cNvCxnSpPr>
              <a:stCxn id="675" idx="4"/>
              <a:endCxn id="680" idx="0"/>
            </p:cNvCxnSpPr>
            <p:nvPr/>
          </p:nvCxnSpPr>
          <p:spPr>
            <a:xfrm flipH="1">
              <a:off x="2120400" y="3403080"/>
              <a:ext cx="22932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682" name=""/>
            <p:cNvSpPr/>
            <p:nvPr/>
          </p:nvSpPr>
          <p:spPr>
            <a:xfrm>
              <a:off x="1739880" y="370836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2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5257800" y="4724280"/>
            <a:ext cx="3657600" cy="15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e = 3, ax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S[1,3] .. S[2,3] :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S[3,3] : rul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돋움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965160" y="4737240"/>
            <a:ext cx="1600200" cy="1447200"/>
            <a:chOff x="965160" y="4737240"/>
            <a:chExt cx="1600200" cy="1447200"/>
          </a:xfrm>
        </p:grpSpPr>
        <p:sp>
          <p:nvSpPr>
            <p:cNvPr id="685" name=""/>
            <p:cNvSpPr/>
            <p:nvPr/>
          </p:nvSpPr>
          <p:spPr>
            <a:xfrm>
              <a:off x="2260440" y="4889520"/>
              <a:ext cx="304920" cy="3042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117440" y="587988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7" name=""/>
            <p:cNvCxnSpPr>
              <a:stCxn id="685" idx="3"/>
              <a:endCxn id="686" idx="0"/>
            </p:cNvCxnSpPr>
            <p:nvPr/>
          </p:nvCxnSpPr>
          <p:spPr>
            <a:xfrm flipH="1">
              <a:off x="1345680" y="5149440"/>
              <a:ext cx="959760" cy="730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688" name=""/>
            <p:cNvSpPr/>
            <p:nvPr/>
          </p:nvSpPr>
          <p:spPr>
            <a:xfrm>
              <a:off x="1422360" y="5118120"/>
              <a:ext cx="4572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1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65160" y="473724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55880" y="587988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1" name=""/>
            <p:cNvCxnSpPr>
              <a:stCxn id="685" idx="4"/>
              <a:endCxn id="690" idx="0"/>
            </p:cNvCxnSpPr>
            <p:nvPr/>
          </p:nvCxnSpPr>
          <p:spPr>
            <a:xfrm flipH="1">
              <a:off x="2183760" y="5194080"/>
              <a:ext cx="229320" cy="686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692" name=""/>
            <p:cNvSpPr/>
            <p:nvPr/>
          </p:nvSpPr>
          <p:spPr>
            <a:xfrm>
              <a:off x="1803240" y="549900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2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93515-EE80-41EF-B373-745DE40D8924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19040" y="72360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Example: S=axaxbb$ -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207040" y="1612800"/>
            <a:ext cx="365760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e = 4, ax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1,4] .. S[2,4]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3,4] : rul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4,4] : auto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j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돋움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977760" y="1650960"/>
            <a:ext cx="1600200" cy="1447920"/>
            <a:chOff x="977760" y="1650960"/>
            <a:chExt cx="1600200" cy="1447920"/>
          </a:xfrm>
        </p:grpSpPr>
        <p:sp>
          <p:nvSpPr>
            <p:cNvPr id="696" name=""/>
            <p:cNvSpPr/>
            <p:nvPr/>
          </p:nvSpPr>
          <p:spPr>
            <a:xfrm>
              <a:off x="2273040" y="1803240"/>
              <a:ext cx="304920" cy="3049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30040" y="2793960"/>
              <a:ext cx="457200" cy="3049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8" name=""/>
            <p:cNvCxnSpPr>
              <a:stCxn id="696" idx="3"/>
              <a:endCxn id="697" idx="0"/>
            </p:cNvCxnSpPr>
            <p:nvPr/>
          </p:nvCxnSpPr>
          <p:spPr>
            <a:xfrm flipH="1">
              <a:off x="1358280" y="2063880"/>
              <a:ext cx="959760" cy="730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699" name=""/>
            <p:cNvSpPr/>
            <p:nvPr/>
          </p:nvSpPr>
          <p:spPr>
            <a:xfrm>
              <a:off x="1434960" y="20318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1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977760" y="165096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68480" y="2793960"/>
              <a:ext cx="457200" cy="3049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2" name=""/>
            <p:cNvCxnSpPr>
              <a:stCxn id="696" idx="4"/>
              <a:endCxn id="701" idx="0"/>
            </p:cNvCxnSpPr>
            <p:nvPr/>
          </p:nvCxnSpPr>
          <p:spPr>
            <a:xfrm flipH="1">
              <a:off x="2196360" y="2107800"/>
              <a:ext cx="22932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03" name=""/>
            <p:cNvSpPr/>
            <p:nvPr/>
          </p:nvSpPr>
          <p:spPr>
            <a:xfrm>
              <a:off x="1815840" y="241308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2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5194440" y="3632040"/>
            <a:ext cx="3657600" cy="23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e = 5, axax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1,5] .. S[2,5]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3,5] : rule 2, split (1,e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 (1, 2) and (3,e), create (5,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4,5] : rule 2, split (2,e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 (2,2) and (3,e), create (5,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5,5] : rule 2, create (5,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j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돋움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 =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457200" y="3556080"/>
            <a:ext cx="3657600" cy="2438280"/>
            <a:chOff x="457200" y="3556080"/>
            <a:chExt cx="3657600" cy="2438280"/>
          </a:xfrm>
        </p:grpSpPr>
        <p:sp>
          <p:nvSpPr>
            <p:cNvPr id="706" name=""/>
            <p:cNvSpPr/>
            <p:nvPr/>
          </p:nvSpPr>
          <p:spPr>
            <a:xfrm>
              <a:off x="2209680" y="3708360"/>
              <a:ext cx="304920" cy="3049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7" name=""/>
            <p:cNvCxnSpPr>
              <a:stCxn id="706" idx="3"/>
              <a:endCxn id="708" idx="7"/>
            </p:cNvCxnSpPr>
            <p:nvPr/>
          </p:nvCxnSpPr>
          <p:spPr>
            <a:xfrm flipH="1">
              <a:off x="1326600" y="3968640"/>
              <a:ext cx="927720" cy="775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09" name=""/>
            <p:cNvSpPr/>
            <p:nvPr/>
          </p:nvSpPr>
          <p:spPr>
            <a:xfrm>
              <a:off x="1371600" y="393696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1,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914400" y="35560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57400" y="568980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2" name=""/>
            <p:cNvCxnSpPr>
              <a:stCxn id="706" idx="4"/>
              <a:endCxn id="713" idx="0"/>
            </p:cNvCxnSpPr>
            <p:nvPr/>
          </p:nvCxnSpPr>
          <p:spPr>
            <a:xfrm>
              <a:off x="2362320" y="4012920"/>
              <a:ext cx="38160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2133720" y="42418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2,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57200" y="568980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47920" y="568980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66680" y="4699080"/>
              <a:ext cx="304920" cy="3049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7" name=""/>
            <p:cNvCxnSpPr>
              <a:stCxn id="708" idx="3"/>
              <a:endCxn id="715" idx="0"/>
            </p:cNvCxnSpPr>
            <p:nvPr/>
          </p:nvCxnSpPr>
          <p:spPr>
            <a:xfrm flipH="1">
              <a:off x="685440" y="4959000"/>
              <a:ext cx="426240" cy="731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18" name=""/>
            <p:cNvCxnSpPr>
              <a:stCxn id="708" idx="5"/>
              <a:endCxn id="716" idx="0"/>
            </p:cNvCxnSpPr>
            <p:nvPr/>
          </p:nvCxnSpPr>
          <p:spPr>
            <a:xfrm>
              <a:off x="1327320" y="4959000"/>
              <a:ext cx="349920" cy="731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19" name=""/>
            <p:cNvSpPr/>
            <p:nvPr/>
          </p:nvSpPr>
          <p:spPr>
            <a:xfrm>
              <a:off x="533520" y="51562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3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43000" y="53848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5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590920" y="4699080"/>
              <a:ext cx="304560" cy="3049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8120" y="568980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2" name=""/>
            <p:cNvCxnSpPr>
              <a:stCxn id="713" idx="3"/>
              <a:endCxn id="711" idx="0"/>
            </p:cNvCxnSpPr>
            <p:nvPr/>
          </p:nvCxnSpPr>
          <p:spPr>
            <a:xfrm flipH="1">
              <a:off x="2285640" y="4959000"/>
              <a:ext cx="349920" cy="731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23" name=""/>
            <p:cNvCxnSpPr>
              <a:stCxn id="713" idx="5"/>
              <a:endCxn id="721" idx="0"/>
            </p:cNvCxnSpPr>
            <p:nvPr/>
          </p:nvCxnSpPr>
          <p:spPr>
            <a:xfrm>
              <a:off x="2851200" y="4959000"/>
              <a:ext cx="426240" cy="731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24" name=""/>
            <p:cNvSpPr/>
            <p:nvPr/>
          </p:nvSpPr>
          <p:spPr>
            <a:xfrm>
              <a:off x="2057400" y="507996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3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666880" y="523260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5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6" name=""/>
            <p:cNvCxnSpPr>
              <a:stCxn id="708" idx="6"/>
              <a:endCxn id="713" idx="2"/>
            </p:cNvCxnSpPr>
            <p:nvPr/>
          </p:nvCxnSpPr>
          <p:spPr>
            <a:xfrm>
              <a:off x="1371240" y="4851000"/>
              <a:ext cx="1220040" cy="1080"/>
            </a:xfrm>
            <a:prstGeom prst="straightConnector1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</p:cxnSp>
        <p:cxnSp>
          <p:nvCxnSpPr>
            <p:cNvPr id="727" name=""/>
            <p:cNvCxnSpPr>
              <a:stCxn id="706" idx="5"/>
              <a:endCxn id="728" idx="0"/>
            </p:cNvCxnSpPr>
            <p:nvPr/>
          </p:nvCxnSpPr>
          <p:spPr>
            <a:xfrm>
              <a:off x="2469960" y="3969000"/>
              <a:ext cx="1416600" cy="80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29" name=""/>
            <p:cNvSpPr/>
            <p:nvPr/>
          </p:nvSpPr>
          <p:spPr>
            <a:xfrm>
              <a:off x="3276720" y="416556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5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0" name=""/>
            <p:cNvCxnSpPr>
              <a:stCxn id="713" idx="6"/>
              <a:endCxn id="706" idx="6"/>
            </p:cNvCxnSpPr>
            <p:nvPr/>
          </p:nvCxnSpPr>
          <p:spPr>
            <a:xfrm flipH="1" flipV="1">
              <a:off x="2514240" y="3860280"/>
              <a:ext cx="381600" cy="991080"/>
            </a:xfrm>
            <a:prstGeom prst="curvedConnector5">
              <a:avLst>
                <a:gd name="adj1" fmla="val -59962"/>
                <a:gd name="adj2" fmla="val 50000"/>
                <a:gd name="adj3" fmla="val -59962"/>
              </a:avLst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</p:cxnSp>
        <p:sp>
          <p:nvSpPr>
            <p:cNvPr id="728" name=""/>
            <p:cNvSpPr/>
            <p:nvPr/>
          </p:nvSpPr>
          <p:spPr>
            <a:xfrm>
              <a:off x="3657600" y="477540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F9DF7-4BFB-4D4C-B0B2-E330BB8113EE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Example: S=axaxbb$ -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232240" y="1752480"/>
            <a:ext cx="3657600" cy="12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e = 6, axax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1,6] .. S[5,6]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6,6] : rul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j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돋움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 =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270400" y="4317840"/>
            <a:ext cx="36576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e = 7, axaxbb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1,7] .. S[5,7]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6,7] : rule 2, split (5,e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 (5,5) and (6,e), create (6,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S[7,7] : rule 2, create (7,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j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돋움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 =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851040" y="1143000"/>
            <a:ext cx="3657600" cy="2438280"/>
            <a:chOff x="851040" y="1143000"/>
            <a:chExt cx="3657600" cy="2438280"/>
          </a:xfrm>
        </p:grpSpPr>
        <p:sp>
          <p:nvSpPr>
            <p:cNvPr id="735" name=""/>
            <p:cNvSpPr/>
            <p:nvPr/>
          </p:nvSpPr>
          <p:spPr>
            <a:xfrm>
              <a:off x="2603520" y="1295280"/>
              <a:ext cx="304920" cy="3049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6" name=""/>
            <p:cNvCxnSpPr>
              <a:stCxn id="735" idx="3"/>
              <a:endCxn id="737" idx="7"/>
            </p:cNvCxnSpPr>
            <p:nvPr/>
          </p:nvCxnSpPr>
          <p:spPr>
            <a:xfrm flipH="1">
              <a:off x="1720440" y="1555560"/>
              <a:ext cx="927720" cy="775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38" name=""/>
            <p:cNvSpPr/>
            <p:nvPr/>
          </p:nvSpPr>
          <p:spPr>
            <a:xfrm>
              <a:off x="1765440" y="15238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1,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308240" y="114300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451240" y="327672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1" name=""/>
            <p:cNvCxnSpPr>
              <a:stCxn id="735" idx="4"/>
              <a:endCxn id="742" idx="0"/>
            </p:cNvCxnSpPr>
            <p:nvPr/>
          </p:nvCxnSpPr>
          <p:spPr>
            <a:xfrm>
              <a:off x="2756160" y="1599840"/>
              <a:ext cx="38160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43" name=""/>
            <p:cNvSpPr/>
            <p:nvPr/>
          </p:nvSpPr>
          <p:spPr>
            <a:xfrm>
              <a:off x="2527560" y="182880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2,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51040" y="327672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841760" y="327672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460520" y="2286000"/>
              <a:ext cx="304920" cy="3049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6" name=""/>
            <p:cNvCxnSpPr>
              <a:stCxn id="737" idx="3"/>
              <a:endCxn id="744" idx="0"/>
            </p:cNvCxnSpPr>
            <p:nvPr/>
          </p:nvCxnSpPr>
          <p:spPr>
            <a:xfrm flipH="1">
              <a:off x="1079280" y="2545920"/>
              <a:ext cx="426240" cy="731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47" name=""/>
            <p:cNvCxnSpPr>
              <a:stCxn id="737" idx="5"/>
              <a:endCxn id="745" idx="0"/>
            </p:cNvCxnSpPr>
            <p:nvPr/>
          </p:nvCxnSpPr>
          <p:spPr>
            <a:xfrm>
              <a:off x="1721160" y="2545920"/>
              <a:ext cx="349920" cy="731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48" name=""/>
            <p:cNvSpPr/>
            <p:nvPr/>
          </p:nvSpPr>
          <p:spPr>
            <a:xfrm>
              <a:off x="927360" y="274320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3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36840" y="297180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5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984760" y="2286000"/>
              <a:ext cx="304560" cy="3049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441960" y="327672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1" name=""/>
            <p:cNvCxnSpPr>
              <a:stCxn id="742" idx="3"/>
              <a:endCxn id="740" idx="0"/>
            </p:cNvCxnSpPr>
            <p:nvPr/>
          </p:nvCxnSpPr>
          <p:spPr>
            <a:xfrm flipH="1">
              <a:off x="2679480" y="2545920"/>
              <a:ext cx="349920" cy="731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52" name=""/>
            <p:cNvCxnSpPr>
              <a:stCxn id="742" idx="5"/>
              <a:endCxn id="750" idx="0"/>
            </p:cNvCxnSpPr>
            <p:nvPr/>
          </p:nvCxnSpPr>
          <p:spPr>
            <a:xfrm>
              <a:off x="3245040" y="2545920"/>
              <a:ext cx="426240" cy="731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53" name=""/>
            <p:cNvSpPr/>
            <p:nvPr/>
          </p:nvSpPr>
          <p:spPr>
            <a:xfrm>
              <a:off x="2451240" y="26668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3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60720" y="281952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5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5" name=""/>
            <p:cNvCxnSpPr>
              <a:stCxn id="737" idx="6"/>
              <a:endCxn id="742" idx="2"/>
            </p:cNvCxnSpPr>
            <p:nvPr/>
          </p:nvCxnSpPr>
          <p:spPr>
            <a:xfrm>
              <a:off x="1765080" y="2437920"/>
              <a:ext cx="1220040" cy="1080"/>
            </a:xfrm>
            <a:prstGeom prst="straightConnector1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</p:cxnSp>
        <p:cxnSp>
          <p:nvCxnSpPr>
            <p:cNvPr id="756" name=""/>
            <p:cNvCxnSpPr>
              <a:stCxn id="735" idx="5"/>
              <a:endCxn id="757" idx="0"/>
            </p:cNvCxnSpPr>
            <p:nvPr/>
          </p:nvCxnSpPr>
          <p:spPr>
            <a:xfrm>
              <a:off x="2863800" y="1555920"/>
              <a:ext cx="1416600" cy="730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58" name=""/>
            <p:cNvSpPr/>
            <p:nvPr/>
          </p:nvSpPr>
          <p:spPr>
            <a:xfrm>
              <a:off x="3670560" y="17524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5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9" name=""/>
            <p:cNvCxnSpPr>
              <a:stCxn id="742" idx="6"/>
              <a:endCxn id="735" idx="6"/>
            </p:cNvCxnSpPr>
            <p:nvPr/>
          </p:nvCxnSpPr>
          <p:spPr>
            <a:xfrm flipH="1" flipV="1">
              <a:off x="2908080" y="1447200"/>
              <a:ext cx="381600" cy="991080"/>
            </a:xfrm>
            <a:prstGeom prst="curvedConnector5">
              <a:avLst>
                <a:gd name="adj1" fmla="val -59962"/>
                <a:gd name="adj2" fmla="val 50000"/>
                <a:gd name="adj3" fmla="val -59962"/>
              </a:avLst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</p:cxnSp>
        <p:sp>
          <p:nvSpPr>
            <p:cNvPr id="757" name=""/>
            <p:cNvSpPr/>
            <p:nvPr/>
          </p:nvSpPr>
          <p:spPr>
            <a:xfrm>
              <a:off x="4051440" y="2286000"/>
              <a:ext cx="457200" cy="3049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431640" y="3847680"/>
            <a:ext cx="4572000" cy="2514960"/>
            <a:chOff x="431640" y="3847680"/>
            <a:chExt cx="4572000" cy="2514960"/>
          </a:xfrm>
        </p:grpSpPr>
        <p:sp>
          <p:nvSpPr>
            <p:cNvPr id="761" name=""/>
            <p:cNvSpPr/>
            <p:nvPr/>
          </p:nvSpPr>
          <p:spPr>
            <a:xfrm>
              <a:off x="2184120" y="4076640"/>
              <a:ext cx="304920" cy="3049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2" name=""/>
            <p:cNvCxnSpPr>
              <a:stCxn id="761" idx="3"/>
              <a:endCxn id="763" idx="7"/>
            </p:cNvCxnSpPr>
            <p:nvPr/>
          </p:nvCxnSpPr>
          <p:spPr>
            <a:xfrm flipH="1">
              <a:off x="1301040" y="4336920"/>
              <a:ext cx="927720" cy="775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64" name=""/>
            <p:cNvSpPr/>
            <p:nvPr/>
          </p:nvSpPr>
          <p:spPr>
            <a:xfrm>
              <a:off x="1346040" y="43052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1,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88840" y="392436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31840" y="6057720"/>
              <a:ext cx="457200" cy="3049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7" name=""/>
            <p:cNvCxnSpPr>
              <a:stCxn id="761" idx="4"/>
              <a:endCxn id="768" idx="0"/>
            </p:cNvCxnSpPr>
            <p:nvPr/>
          </p:nvCxnSpPr>
          <p:spPr>
            <a:xfrm>
              <a:off x="2336760" y="4381200"/>
              <a:ext cx="38160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69" name=""/>
            <p:cNvSpPr/>
            <p:nvPr/>
          </p:nvSpPr>
          <p:spPr>
            <a:xfrm>
              <a:off x="2108160" y="461016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2,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31640" y="6057720"/>
              <a:ext cx="457200" cy="3049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422360" y="6057720"/>
              <a:ext cx="457200" cy="3049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41120" y="5067360"/>
              <a:ext cx="304920" cy="30456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2" name=""/>
            <p:cNvCxnSpPr>
              <a:stCxn id="763" idx="3"/>
              <a:endCxn id="770" idx="0"/>
            </p:cNvCxnSpPr>
            <p:nvPr/>
          </p:nvCxnSpPr>
          <p:spPr>
            <a:xfrm flipH="1">
              <a:off x="659880" y="5327640"/>
              <a:ext cx="426240" cy="730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73" name=""/>
            <p:cNvCxnSpPr>
              <a:stCxn id="763" idx="5"/>
              <a:endCxn id="771" idx="0"/>
            </p:cNvCxnSpPr>
            <p:nvPr/>
          </p:nvCxnSpPr>
          <p:spPr>
            <a:xfrm>
              <a:off x="1301760" y="5327640"/>
              <a:ext cx="349920" cy="730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74" name=""/>
            <p:cNvSpPr/>
            <p:nvPr/>
          </p:nvSpPr>
          <p:spPr>
            <a:xfrm>
              <a:off x="507960" y="552456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3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17440" y="575316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5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565360" y="5067360"/>
              <a:ext cx="304560" cy="30456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022560" y="6057720"/>
              <a:ext cx="457200" cy="3049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7" name=""/>
            <p:cNvCxnSpPr>
              <a:stCxn id="768" idx="3"/>
              <a:endCxn id="766" idx="0"/>
            </p:cNvCxnSpPr>
            <p:nvPr/>
          </p:nvCxnSpPr>
          <p:spPr>
            <a:xfrm flipH="1">
              <a:off x="2260080" y="5327640"/>
              <a:ext cx="349920" cy="730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78" name=""/>
            <p:cNvCxnSpPr>
              <a:stCxn id="768" idx="5"/>
              <a:endCxn id="776" idx="0"/>
            </p:cNvCxnSpPr>
            <p:nvPr/>
          </p:nvCxnSpPr>
          <p:spPr>
            <a:xfrm>
              <a:off x="2825640" y="5327640"/>
              <a:ext cx="426240" cy="730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79" name=""/>
            <p:cNvSpPr/>
            <p:nvPr/>
          </p:nvSpPr>
          <p:spPr>
            <a:xfrm>
              <a:off x="2031840" y="54482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3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641320" y="56005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5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1" name=""/>
            <p:cNvCxnSpPr>
              <a:stCxn id="763" idx="6"/>
              <a:endCxn id="768" idx="2"/>
            </p:cNvCxnSpPr>
            <p:nvPr/>
          </p:nvCxnSpPr>
          <p:spPr>
            <a:xfrm>
              <a:off x="1345680" y="5219280"/>
              <a:ext cx="1220040" cy="1080"/>
            </a:xfrm>
            <a:prstGeom prst="straightConnector1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</p:cxnSp>
        <p:sp>
          <p:nvSpPr>
            <p:cNvPr id="782" name=""/>
            <p:cNvSpPr/>
            <p:nvPr/>
          </p:nvSpPr>
          <p:spPr>
            <a:xfrm>
              <a:off x="3708360" y="5067360"/>
              <a:ext cx="304560" cy="30456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3" name=""/>
            <p:cNvCxnSpPr>
              <a:stCxn id="761" idx="5"/>
              <a:endCxn id="782" idx="1"/>
            </p:cNvCxnSpPr>
            <p:nvPr/>
          </p:nvCxnSpPr>
          <p:spPr>
            <a:xfrm>
              <a:off x="2444400" y="4336920"/>
              <a:ext cx="1308600" cy="775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84" name=""/>
            <p:cNvSpPr/>
            <p:nvPr/>
          </p:nvSpPr>
          <p:spPr>
            <a:xfrm>
              <a:off x="3251160" y="45338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5,5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5" name=""/>
            <p:cNvCxnSpPr>
              <a:stCxn id="768" idx="6"/>
              <a:endCxn id="761" idx="6"/>
            </p:cNvCxnSpPr>
            <p:nvPr/>
          </p:nvCxnSpPr>
          <p:spPr>
            <a:xfrm flipH="1" flipV="1">
              <a:off x="2488680" y="4228560"/>
              <a:ext cx="381600" cy="991440"/>
            </a:xfrm>
            <a:prstGeom prst="curvedConnector5">
              <a:avLst>
                <a:gd name="adj1" fmla="val -59962"/>
                <a:gd name="adj2" fmla="val 49981"/>
                <a:gd name="adj3" fmla="val -59962"/>
              </a:avLst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</p:cxnSp>
        <p:sp>
          <p:nvSpPr>
            <p:cNvPr id="786" name=""/>
            <p:cNvSpPr/>
            <p:nvPr/>
          </p:nvSpPr>
          <p:spPr>
            <a:xfrm>
              <a:off x="3784320" y="598176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546440" y="529596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8" name=""/>
            <p:cNvCxnSpPr>
              <a:stCxn id="782" idx="4"/>
              <a:endCxn id="786" idx="0"/>
            </p:cNvCxnSpPr>
            <p:nvPr/>
          </p:nvCxnSpPr>
          <p:spPr>
            <a:xfrm>
              <a:off x="3860280" y="5371920"/>
              <a:ext cx="153000" cy="610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89" name=""/>
            <p:cNvCxnSpPr>
              <a:stCxn id="782" idx="6"/>
              <a:endCxn id="787" idx="1"/>
            </p:cNvCxnSpPr>
            <p:nvPr/>
          </p:nvCxnSpPr>
          <p:spPr>
            <a:xfrm>
              <a:off x="4012920" y="5219280"/>
              <a:ext cx="534240" cy="229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90" name=""/>
            <p:cNvCxnSpPr>
              <a:stCxn id="761" idx="6"/>
              <a:endCxn id="791" idx="1"/>
            </p:cNvCxnSpPr>
            <p:nvPr/>
          </p:nvCxnSpPr>
          <p:spPr>
            <a:xfrm>
              <a:off x="2488680" y="4228920"/>
              <a:ext cx="1524600" cy="76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92" name=""/>
            <p:cNvSpPr/>
            <p:nvPr/>
          </p:nvSpPr>
          <p:spPr>
            <a:xfrm>
              <a:off x="3479760" y="552456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6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65560" y="49910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7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74840" y="40003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(7,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5" name=""/>
            <p:cNvCxnSpPr>
              <a:stCxn id="782" idx="7"/>
              <a:endCxn id="761" idx="7"/>
            </p:cNvCxnSpPr>
            <p:nvPr/>
          </p:nvCxnSpPr>
          <p:spPr>
            <a:xfrm flipV="1" rot="16200000">
              <a:off x="2710800" y="3853800"/>
              <a:ext cx="991440" cy="1524600"/>
            </a:xfrm>
            <a:prstGeom prst="curvedConnector5">
              <a:avLst>
                <a:gd name="adj1" fmla="val 127533"/>
                <a:gd name="adj2" fmla="val 50000"/>
                <a:gd name="adj3" fmla="val 127533"/>
              </a:avLst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</p:cxnSp>
        <p:sp>
          <p:nvSpPr>
            <p:cNvPr id="791" name=""/>
            <p:cNvSpPr/>
            <p:nvPr/>
          </p:nvSpPr>
          <p:spPr>
            <a:xfrm>
              <a:off x="4012920" y="4152960"/>
              <a:ext cx="457200" cy="304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8ACF1-0441-45EF-A20B-2BFBE81B47D2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xity of 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ince all the implicit extensions in any phase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nstant, their total cost is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otally, only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xplicit extensions are exec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e max number of down-walking skips is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ime-complexity of Ukkonen’s algorithm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1344600" y="4206960"/>
            <a:ext cx="5819760" cy="192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3E3A-9FD9-44E8-856B-0A1DD77D133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ish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79280" y="1785600"/>
            <a:ext cx="87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final implicit suffix tree to a true suffix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just another phase of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ll suffixes will be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very leaf edge with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requires a traversal of tree which is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O(m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ACA10-C14A-4A89-A872-D30C6082B96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lementation Issues –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95280" y="1735200"/>
            <a:ext cx="82296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size of the alphabet grow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trees suffix links allow an algorithm to move quickly from one part of the tree to a distant part of the tree. This i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re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orst-case time bo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it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orr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ee isn't entirely in mem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implementing ST to reduce practical space use can be a serious conc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design issues are how to represent and search the branches out of the nodes of the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actical design must balance between constraints of space and need for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577CC-1EC2-4E9B-96EA-9B305C904ED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lementation Issues –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67840" y="1633680"/>
            <a:ext cx="842004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basic choices to represent bra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siz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) at each non-leaf nod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ked 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nod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characters that appear at the beginning of the edge-labels out of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ts kep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rted or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 reduces the average time to search for a given chara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worst case it, adds time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to every node operation. If the number of children of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large, then little space is saved over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le noticeably degrading perform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alanced t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lements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nod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s and searches tak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(log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 and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(k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ace, wher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number of children of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is alternative makes sense only when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airly l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ashing sche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challenge is to find a scheme balancing space with speed. For large trees and alphabets hashing is very attractive at least for some of the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DFF62-FD73-4941-8D77-9B90F5DBDD40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58600"/>
            <a:ext cx="82296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ing/Pattern Matching -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given a source string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we have to answer queries of the form: is the string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bstring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uth-Morris-Pratt (KMP) string matc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(|S| + | 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|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 per qu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(n|S| +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| 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|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 fo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x tre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(|S| +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| 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|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 fo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8B59E-E03E-4D57-B531-EA48EA709C4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lementation Issues –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large enough, the best design is probably a mixture of the above cho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near the root of the tree tend to have the most children, so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rra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ensible choice at those no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odes in the middle of a suffix tree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ash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alanc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ees may be the best cho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the alphabet size is explicitly presented  in the time and space b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time i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O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m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og|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|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using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|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ace.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is the size of the st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C5046-9F80-4B3B-A037-3D07E5C0AE1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508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pplications of Suffix Tre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1B312-13C2-4830-B039-005A38DCF51A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plications of Suffix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33440" y="1684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ct string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string problem for a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est common subst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ffix arr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30CC2-6B3C-4FEE-A9DE-03387A86F7F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ct String Matching –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07520" y="1531440"/>
            <a:ext cx="833148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 matching problem: given a pattern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length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 text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length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ind all occurrences of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O(n+m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ST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a ST for text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O(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the characters of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ong the unique path in ST until either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xhausted or no more matches a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atter case,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n’t appear anywhere in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ormer case, every leaf in the subtree below the point of the last match is numbered with a starting location of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every starting location of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umbers such a le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 approach spends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O(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processing time and then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O(n+k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arch time, where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number of occurrences of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0ED34-0DED-48FE-B708-00DE769B48E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ct String Matching –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earch terminates at an element node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ears exactly once in the source string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earch fo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rminates at a branch node, each element node in the subtree rooted at this branch node gives a different occurrence o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1022400" y="4102200"/>
            <a:ext cx="6889320" cy="2198520"/>
            <a:chOff x="1022400" y="4102200"/>
            <a:chExt cx="6889320" cy="2198520"/>
          </a:xfrm>
        </p:grpSpPr>
        <p:grpSp>
          <p:nvGrpSpPr>
            <p:cNvPr id="816" name=""/>
            <p:cNvGrpSpPr/>
            <p:nvPr/>
          </p:nvGrpSpPr>
          <p:grpSpPr>
            <a:xfrm>
              <a:off x="1022400" y="4225680"/>
              <a:ext cx="6889320" cy="2075040"/>
              <a:chOff x="1022400" y="4225680"/>
              <a:chExt cx="6889320" cy="2075040"/>
            </a:xfrm>
          </p:grpSpPr>
          <p:grpSp>
            <p:nvGrpSpPr>
              <p:cNvPr id="817" name=""/>
              <p:cNvGrpSpPr/>
              <p:nvPr/>
            </p:nvGrpSpPr>
            <p:grpSpPr>
              <a:xfrm>
                <a:off x="1022400" y="4225680"/>
                <a:ext cx="2841120" cy="1822680"/>
                <a:chOff x="1022400" y="4225680"/>
                <a:chExt cx="2841120" cy="182268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1593720" y="5689440"/>
                  <a:ext cx="309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9" name=""/>
                <p:cNvGrpSpPr/>
                <p:nvPr/>
              </p:nvGrpSpPr>
              <p:grpSpPr>
                <a:xfrm>
                  <a:off x="1022400" y="4225680"/>
                  <a:ext cx="2841120" cy="1822680"/>
                  <a:chOff x="1022400" y="4225680"/>
                  <a:chExt cx="2841120" cy="182268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>
                    <a:off x="2349360" y="4225680"/>
                    <a:ext cx="32796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x 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2320560" y="4316040"/>
                    <a:ext cx="1368000" cy="1368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2311200" y="4301640"/>
                    <a:ext cx="360000" cy="136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flipH="1">
                    <a:off x="1734840" y="4301640"/>
                    <a:ext cx="576000" cy="136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H="1">
                    <a:off x="1158120" y="4301640"/>
                    <a:ext cx="1152360" cy="136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2671560" y="4662000"/>
                    <a:ext cx="431280" cy="1008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flipH="1">
                    <a:off x="2166480" y="4878000"/>
                    <a:ext cx="286920" cy="792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2273040" y="4276440"/>
                    <a:ext cx="72720" cy="71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2646000" y="4649400"/>
                    <a:ext cx="72720" cy="71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2422440" y="4854240"/>
                    <a:ext cx="72360" cy="71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3641400" y="5644800"/>
                    <a:ext cx="72720" cy="71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3074760" y="5644800"/>
                    <a:ext cx="72720" cy="71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2636640" y="5649480"/>
                    <a:ext cx="72720" cy="71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2131920" y="5649480"/>
                    <a:ext cx="72360" cy="71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1698480" y="5649480"/>
                    <a:ext cx="72720" cy="71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1122120" y="5640120"/>
                    <a:ext cx="72720" cy="71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3554280" y="5687640"/>
                    <a:ext cx="3092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2974680" y="5689440"/>
                    <a:ext cx="3092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2545920" y="5694120"/>
                    <a:ext cx="3092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2031840" y="5689440"/>
                    <a:ext cx="3092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1022400" y="5670360"/>
                    <a:ext cx="3092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2493720" y="4365360"/>
                    <a:ext cx="32832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2752560" y="4614480"/>
                    <a:ext cx="32832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b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2968200" y="4830480"/>
                    <a:ext cx="32832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x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3184200" y="5046480"/>
                    <a:ext cx="32832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400200" y="5262120"/>
                    <a:ext cx="32832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2889000" y="5141520"/>
                    <a:ext cx="32832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2489040" y="4636800"/>
                    <a:ext cx="32832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2327040" y="4479480"/>
                    <a:ext cx="27108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 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2435040" y="4835160"/>
                    <a:ext cx="29484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b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2479320" y="5032080"/>
                    <a:ext cx="29484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x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2533320" y="5219280"/>
                    <a:ext cx="29484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2587320" y="5406840"/>
                    <a:ext cx="29484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2219040" y="4767120"/>
                    <a:ext cx="29484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2103120" y="5146200"/>
                    <a:ext cx="29484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1814400" y="4833720"/>
                    <a:ext cx="29484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1854000" y="4392360"/>
                    <a:ext cx="29016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b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1636560" y="4636800"/>
                    <a:ext cx="29016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x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1409400" y="4914720"/>
                    <a:ext cx="29016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1196640" y="5187600"/>
                    <a:ext cx="29016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0" name=""/>
              <p:cNvSpPr/>
              <p:nvPr/>
            </p:nvSpPr>
            <p:spPr>
              <a:xfrm>
                <a:off x="4063680" y="4381200"/>
                <a:ext cx="3848040" cy="191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otes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 = xa; T = xabxa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attern P matches a path down to the point shown by an arrow, and as required, the leaves below that point are numbered 1 and 4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flipH="1">
              <a:off x="2768400" y="4102200"/>
              <a:ext cx="46980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CC304-A9F6-4EAB-8C73-FA4C8D582D95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Substring Problem for a Databas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2240" y="1544400"/>
            <a:ext cx="87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a database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a set of strings) and a string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d all the strings in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ontaining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s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Usage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identity of the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xact string matching methods: canno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 tr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s stored in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total length of all the strings in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x tree is built in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ach lookup o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length of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sts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7E51-3FD4-4B02-8D74-D874FC86F545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7505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ngest common substring –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82680" y="16081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two strings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3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 the longest substring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ommon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3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common-sub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common-sub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qu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common-su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978DD-938E-4543-9E09-7CBC650EDF4C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9172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ngest common substring –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95280" y="1633320"/>
            <a:ext cx="83440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Build a 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 tree for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ach leaf represents either a 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 from one of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or a 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 from both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ark each internal node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1 (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if there is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leaf in the subtree of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epresenting a 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ath-label of any internal node marked both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is a substring common to both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nd the longest such string is the longest comm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ubst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1D94-E2E2-48D1-B380-98057AB75BC9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535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ngest common substring –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31920" y="1709640"/>
            <a:ext cx="82296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ab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c$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ab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$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ab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453960" y="2585880"/>
            <a:ext cx="7067520" cy="366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63C5A-8AD3-469F-B90E-F1CA07F9AA2F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ffix Arrays –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20840" y="153144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x array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f an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character string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is 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rray of integers in the range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specify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lexicographic order of the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es of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abx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952560" y="3427560"/>
            <a:ext cx="6477120" cy="2771640"/>
            <a:chOff x="952560" y="3427560"/>
            <a:chExt cx="6477120" cy="2771640"/>
          </a:xfrm>
        </p:grpSpPr>
        <p:pic>
          <p:nvPicPr>
            <p:cNvPr id="874" name="" descr=""/>
            <p:cNvPicPr/>
            <p:nvPr/>
          </p:nvPicPr>
          <p:blipFill>
            <a:blip r:embed="rId1"/>
            <a:stretch/>
          </p:blipFill>
          <p:spPr>
            <a:xfrm>
              <a:off x="952560" y="3427560"/>
              <a:ext cx="6477120" cy="277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5" name=""/>
            <p:cNvGrpSpPr/>
            <p:nvPr/>
          </p:nvGrpSpPr>
          <p:grpSpPr>
            <a:xfrm>
              <a:off x="6372360" y="4902120"/>
              <a:ext cx="766800" cy="381240"/>
              <a:chOff x="6372360" y="4902120"/>
              <a:chExt cx="766800" cy="381240"/>
            </a:xfrm>
          </p:grpSpPr>
          <p:pic>
            <p:nvPicPr>
              <p:cNvPr id="8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72360" y="4902120"/>
                <a:ext cx="3618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05440" y="4925880"/>
                <a:ext cx="333720" cy="33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2B83F-E20B-402C-B353-F57A68D2CE54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ing/Pattern Matching -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2840" y="1549080"/>
            <a:ext cx="8102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P preprocesses the query string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as the suffix tree method preprocesses the source string (text)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uffix tree for the text is built in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(m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ime during a pre-processing stage; thereafter, whenever a string of length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(n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input, the algorithm searches it in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(n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ime using that suffix tre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9168-C89E-4C91-8500-6215ADB65D7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ffix Arrays –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31560" y="1722240"/>
            <a:ext cx="8445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 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x array of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an be obtained from the 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ree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by performing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lexical depth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1295280" y="3327480"/>
            <a:ext cx="5592960" cy="3039840"/>
            <a:chOff x="1295280" y="3327480"/>
            <a:chExt cx="5592960" cy="3039840"/>
          </a:xfrm>
        </p:grpSpPr>
        <p:pic>
          <p:nvPicPr>
            <p:cNvPr id="881" name="" descr=""/>
            <p:cNvPicPr/>
            <p:nvPr/>
          </p:nvPicPr>
          <p:blipFill>
            <a:blip r:embed="rId1"/>
            <a:stretch/>
          </p:blipFill>
          <p:spPr>
            <a:xfrm>
              <a:off x="1379520" y="3460680"/>
              <a:ext cx="5508720" cy="29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>
              <a:off x="1295280" y="3327480"/>
              <a:ext cx="1676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6BE36-A3F0-403A-B907-84F754E72BA5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29760" y="456840"/>
            <a:ext cx="853452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ffix Array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ct string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57120" y="1671120"/>
            <a:ext cx="8151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Given two strings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|T |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|P|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d all the occurrences of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Using the binary search on the 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 array of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T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occurrences of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P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T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an be found 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log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xample: let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abxac and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2255760" y="4794120"/>
            <a:ext cx="4581720" cy="1105200"/>
            <a:chOff x="2255760" y="4794120"/>
            <a:chExt cx="4581720" cy="1105200"/>
          </a:xfrm>
        </p:grpSpPr>
        <p:pic>
          <p:nvPicPr>
            <p:cNvPr id="886" name="" descr=""/>
            <p:cNvPicPr/>
            <p:nvPr/>
          </p:nvPicPr>
          <p:blipFill>
            <a:blip r:embed="rId1"/>
            <a:stretch/>
          </p:blipFill>
          <p:spPr>
            <a:xfrm>
              <a:off x="2255760" y="4794120"/>
              <a:ext cx="4581720" cy="11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" descr=""/>
            <p:cNvPicPr/>
            <p:nvPr/>
          </p:nvPicPr>
          <p:blipFill>
            <a:blip r:embed="rId2"/>
            <a:stretch/>
          </p:blipFill>
          <p:spPr>
            <a:xfrm>
              <a:off x="5846760" y="5384880"/>
              <a:ext cx="2952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" descr=""/>
            <p:cNvPicPr/>
            <p:nvPr/>
          </p:nvPicPr>
          <p:blipFill>
            <a:blip r:embed="rId3"/>
            <a:stretch/>
          </p:blipFill>
          <p:spPr>
            <a:xfrm>
              <a:off x="6256440" y="5415120"/>
              <a:ext cx="314280" cy="29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A5530-660B-4038-A944-D25FA01B8F9F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521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Dan Gusf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lgorithms on Strings, Trees, and Sequ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University of California, Dav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Cambridge University P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 Hu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: A database index to large biological sequence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lides 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LD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.C.T. Lee and Chin Lung L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: Suffix Trees. Slides at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CS 5313 Algorithms for Molecular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D57DA-304A-438B-AF3B-F8E0C1D390AB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0840" y="41868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ing Matching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ixes &amp; Suffi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1422000"/>
            <a:ext cx="8559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rings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ginning at the first position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efix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substrings that end at its last position are calle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ffix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=AAC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ixes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AC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AC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xes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AC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bstring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efix of some suffix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uffix Tre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41F03-DC22-4C33-9031-D05A9996197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May 2002</a:t>
            </a: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3:16:35Z</dcterms:created>
  <dc:creator>Server234</dc:creator>
  <dc:description/>
  <dc:language>en-US</dc:language>
  <cp:lastModifiedBy>server 1</cp:lastModifiedBy>
  <dcterms:modified xsi:type="dcterms:W3CDTF">2003-04-10T10:41:42Z</dcterms:modified>
  <cp:revision>167</cp:revision>
  <dc:subject/>
  <dc:title>Cupid </dc:title>
</cp:coreProperties>
</file>